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BF06C-8158-484B-A9B8-8069439F98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FFFB-4DB7-400A-8A28-FBB95D04FA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7E87-CDCB-4388-A25E-A1C1D31D1B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67965-80E3-4E0B-8485-8992DC5239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E48E0-5621-41E9-8BB7-7AB06DED2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6584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02720" y="14475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6584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02720" y="3954960"/>
            <a:ext cx="279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027AF-F8FF-40D8-A055-A44609F313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06E97-7FAB-40D1-AA7E-74C8BAB76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8AD3A-EBD7-4EAF-B668-08775037E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0639-ACEE-4C9D-BDB3-D140829C2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A6E8E-68D6-4BDF-BBA8-D4DD97F45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80000" y="39549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153A-9A73-4AFB-8422-7F8D5B1F0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0000" y="1447560"/>
            <a:ext cx="42390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28600" y="3954960"/>
            <a:ext cx="86868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D496-A59E-42FF-AADF-01E96FD86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122480"/>
          </a:xfrm>
          <a:prstGeom prst="rect">
            <a:avLst/>
          </a:prstGeom>
          <a:gradFill rotWithShape="0">
            <a:gsLst>
              <a:gs pos="0">
                <a:srgbClr val="000036"/>
              </a:gs>
              <a:gs pos="100000">
                <a:srgbClr val="000018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467160" y="57294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68760" y="57294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000680" y="588168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000680" y="55767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471840" y="63435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3440" y="633888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000680" y="64911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4000680" y="61866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343240" y="60339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3486240" y="60339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2913120" y="61866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2905200" y="588168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4570560" y="60339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5711760" y="603396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5143680" y="6186600"/>
            <a:ext cx="1143000" cy="30456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>
            <a:off x="5143680" y="5881680"/>
            <a:ext cx="1143000" cy="304920"/>
          </a:xfrm>
          <a:prstGeom prst="diamond">
            <a:avLst/>
          </a:prstGeom>
          <a:gradFill rotWithShape="0">
            <a:gsLst>
              <a:gs pos="0">
                <a:srgbClr val="000044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"/>
          <p:cNvSpPr/>
          <p:nvPr/>
        </p:nvSpPr>
        <p:spPr>
          <a:xfrm rot="5400000">
            <a:off x="-2628720" y="3848040"/>
            <a:ext cx="5638680" cy="38088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 flipH="1" rot="16200000">
            <a:off x="6158520" y="3848040"/>
            <a:ext cx="5638680" cy="3812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" name=""/>
          <p:cNvGraphicFramePr/>
          <p:nvPr/>
        </p:nvGraphicFramePr>
        <p:xfrm>
          <a:off x="4452840" y="6554880"/>
          <a:ext cx="238320" cy="21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52840" y="6554880"/>
                    <a:ext cx="23832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" name=""/>
          <p:cNvSpPr/>
          <p:nvPr/>
        </p:nvSpPr>
        <p:spPr>
          <a:xfrm rot="5400000">
            <a:off x="37800" y="6514920"/>
            <a:ext cx="304920" cy="380880"/>
          </a:xfrm>
          <a:prstGeom prst="rtTriangle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 flipH="1" rot="5400000">
            <a:off x="8800920" y="6514560"/>
            <a:ext cx="304920" cy="380880"/>
          </a:xfrm>
          <a:prstGeom prst="rtTriangle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 flipH="1" rot="16200000">
            <a:off x="8800920" y="6514920"/>
            <a:ext cx="304920" cy="38088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 type="sldNum" idx="1"/>
          </p:nvPr>
        </p:nvSpPr>
        <p:spPr>
          <a:xfrm>
            <a:off x="7200720" y="639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A5741-A426-4EE5-BAC7-5A4CBF8A745C}" type="slidenum">
              <a:rPr b="0" lang="en-GB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"/>
          <p:cNvSpPr/>
          <p:nvPr/>
        </p:nvSpPr>
        <p:spPr>
          <a:xfrm rot="16200000">
            <a:off x="37800" y="6514560"/>
            <a:ext cx="304920" cy="380880"/>
          </a:xfrm>
          <a:prstGeom prst="rtTriangle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1160" y="2895480"/>
            <a:ext cx="9144000" cy="1122480"/>
          </a:xfrm>
          <a:prstGeom prst="rect">
            <a:avLst/>
          </a:prstGeom>
          <a:gradFill rotWithShape="0">
            <a:gsLst>
              <a:gs pos="0">
                <a:srgbClr val="000036"/>
              </a:gs>
              <a:gs pos="100000">
                <a:srgbClr val="000018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01880" y="1143000"/>
            <a:ext cx="5515920" cy="1412280"/>
            <a:chOff x="1901880" y="1143000"/>
            <a:chExt cx="5515920" cy="1412280"/>
          </a:xfrm>
        </p:grpSpPr>
        <p:sp>
          <p:nvSpPr>
            <p:cNvPr id="71" name=""/>
            <p:cNvSpPr/>
            <p:nvPr/>
          </p:nvSpPr>
          <p:spPr>
            <a:xfrm>
              <a:off x="3454560" y="12952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59400" y="12952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87720" y="14479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87720" y="11430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54560" y="19051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59400" y="19051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87720" y="20574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87720" y="17524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30280" y="16002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444840" y="16002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87560" y="17524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82880" y="14479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68760" y="16002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2400" y="160020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30720" y="1752480"/>
              <a:ext cx="1143000" cy="30492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30720" y="1447920"/>
              <a:ext cx="1143000" cy="304560"/>
            </a:xfrm>
            <a:prstGeom prst="diamond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4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0839000">
              <a:off x="6576120" y="1600920"/>
              <a:ext cx="838440" cy="492120"/>
            </a:xfrm>
            <a:custGeom>
              <a:avLst/>
              <a:gdLst>
                <a:gd name="textAreaLeft" fmla="*/ 131040 w 838440"/>
                <a:gd name="textAreaRight" fmla="*/ 733680 w 8384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0839000">
              <a:off x="5967000" y="1753560"/>
              <a:ext cx="836640" cy="492120"/>
            </a:xfrm>
            <a:custGeom>
              <a:avLst/>
              <a:gdLst>
                <a:gd name="textAreaLeft" fmla="*/ 130680 w 836640"/>
                <a:gd name="textAreaRight" fmla="*/ 732240 w 8366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39000">
              <a:off x="5357520" y="1905840"/>
              <a:ext cx="836640" cy="492120"/>
            </a:xfrm>
            <a:custGeom>
              <a:avLst/>
              <a:gdLst>
                <a:gd name="textAreaLeft" fmla="*/ 130680 w 836640"/>
                <a:gd name="textAreaRight" fmla="*/ 732240 w 8366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0839000">
              <a:off x="4824000" y="2058120"/>
              <a:ext cx="836640" cy="492120"/>
            </a:xfrm>
            <a:custGeom>
              <a:avLst/>
              <a:gdLst>
                <a:gd name="textAreaLeft" fmla="*/ 130680 w 836640"/>
                <a:gd name="textAreaRight" fmla="*/ 732240 w 8366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99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1880" y="1600200"/>
              <a:ext cx="757080" cy="492120"/>
            </a:xfrm>
            <a:custGeom>
              <a:avLst/>
              <a:gdLst>
                <a:gd name="textAreaLeft" fmla="*/ 118080 w 757080"/>
                <a:gd name="textAreaRight" fmla="*/ 662400 w 75708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44760" y="1743120"/>
              <a:ext cx="757080" cy="492120"/>
            </a:xfrm>
            <a:custGeom>
              <a:avLst/>
              <a:gdLst>
                <a:gd name="textAreaLeft" fmla="*/ 118080 w 757080"/>
                <a:gd name="textAreaRight" fmla="*/ 662400 w 75708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97360" y="1895400"/>
              <a:ext cx="757080" cy="492120"/>
            </a:xfrm>
            <a:custGeom>
              <a:avLst/>
              <a:gdLst>
                <a:gd name="textAreaLeft" fmla="*/ 118080 w 757080"/>
                <a:gd name="textAreaRight" fmla="*/ 662400 w 75708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0520" y="2038320"/>
              <a:ext cx="757440" cy="492120"/>
            </a:xfrm>
            <a:custGeom>
              <a:avLst/>
              <a:gdLst>
                <a:gd name="textAreaLeft" fmla="*/ 118080 w 757440"/>
                <a:gd name="textAreaRight" fmla="*/ 662760 w 757440"/>
                <a:gd name="textAreaTop" fmla="*/ 123120 h 492120"/>
                <a:gd name="textAreaBottom" fmla="*/ 369360 h 49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100000">
                  <a:srgbClr val="0066cc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0" y="6324480"/>
            <a:ext cx="533520" cy="533520"/>
          </a:xfrm>
          <a:prstGeom prst="rtTriangle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0" y="0"/>
            <a:ext cx="533520" cy="533520"/>
          </a:xfrm>
          <a:prstGeom prst="rtTriangle">
            <a:avLst/>
          </a:prstGeom>
          <a:gradFill rotWithShape="0">
            <a:gsLst>
              <a:gs pos="0">
                <a:srgbClr val="000066"/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8610480" y="6324480"/>
            <a:ext cx="533520" cy="53352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8610480" y="0"/>
            <a:ext cx="533520" cy="533520"/>
          </a:xfrm>
          <a:prstGeom prst="rtTriangl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Book Antiqu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Book Antiqu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Mural Script"/>
              </a:rPr>
              <a:t>e</a:t>
            </a:r>
            <a:r>
              <a:rPr b="0" lang="en-US" sz="4400" spc="-1" strike="noStrike">
                <a:solidFill>
                  <a:srgbClr val="ffffcc"/>
                </a:solidFill>
                <a:latin typeface="Forte"/>
              </a:rPr>
              <a:t>Queue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51814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Book Antiqua"/>
              </a:rPr>
              <a:t>presented by</a:t>
            </a:r>
            <a:endParaRPr b="0" lang="en-US" sz="16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cc"/>
                </a:solidFill>
                <a:latin typeface="Book Antiqua"/>
              </a:rPr>
              <a:t>Dieter</a:t>
            </a:r>
            <a:r>
              <a:rPr b="0" lang="en-GB" sz="24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i="1" lang="en-GB" sz="2400" spc="-1" strike="noStrike">
                <a:solidFill>
                  <a:srgbClr val="ffffcc"/>
                </a:solidFill>
                <a:latin typeface="Book Antiqua"/>
              </a:rPr>
              <a:t>Stalman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6453360"/>
          <a:ext cx="238320" cy="21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453360"/>
                    <a:ext cx="238320" cy="21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214800" y="2986200"/>
            <a:ext cx="27144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00000" y="504360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55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285264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46920" y="27795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11964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pir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88360" y="2708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62560" y="4869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35640" y="3573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704000" y="49417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49068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716280"/>
            <a:ext cx="121428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5040" y="4950000"/>
            <a:ext cx="115236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71640" y="35002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013120" y="363204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49480" y="398448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39880" y="45464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494480" y="1413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1FBD-971A-4809-A5CB-7F09D2FEE1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00000" y="504360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84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285264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46920" y="27795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964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pir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488360" y="2708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262560" y="4869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5640" y="3573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04000" y="49417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9068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716280"/>
            <a:ext cx="121428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05040" y="4950000"/>
            <a:ext cx="115236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71640" y="35002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13120" y="363204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949480" y="398448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39880" y="45464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494480" y="1413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56000" y="38606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27640" y="24922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29973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195640" y="32130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/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35640" y="36432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Demo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2AE2-DDC2-452D-A3C2-1DDA365C0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3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5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7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299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01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03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05" dur="2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0486 E">
                                      <p:cBhvr>
                                        <p:cTn id="307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09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1" dur="2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7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19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402 E">
                                      <p:cBhvr>
                                        <p:cTn id="321" dur="2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402 E">
                                      <p:cBhvr>
                                        <p:cTn id="323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402 E">
                                      <p:cBhvr>
                                        <p:cTn id="32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8402 E">
                                      <p:cBhvr>
                                        <p:cTn id="327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29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3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3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3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419 E">
                                      <p:cBhvr>
                                        <p:cTn id="337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-181080" y="1052640"/>
            <a:ext cx="4321440" cy="25207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09800" y="2492280"/>
            <a:ext cx="3672000" cy="21607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64000" y="364320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ccecff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ccecff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244440" y="3898800"/>
            <a:ext cx="4392720" cy="26989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97520" y="3898800"/>
            <a:ext cx="3348000" cy="22320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88080" y="1090440"/>
            <a:ext cx="3557520" cy="24829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6000" y="32130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/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64000" y="29973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79280" y="466092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6149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ook Antiqua"/>
              </a:rPr>
              <a:t>All of these functions can share information!</a:t>
            </a:r>
            <a:endParaRPr b="0" lang="en-US" sz="32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329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79280" y="190800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80000" y="45212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156360" y="176364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27003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692360" y="262908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46920" y="2627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11964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88360" y="255600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62560" y="53132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335640" y="40179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704000" y="53863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54784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28796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805040" y="55213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40719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013120" y="42037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949480" y="45561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39880" y="51181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494480" y="1260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619280" y="140508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71640" y="190800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82920" y="38606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25653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45" idx="0"/>
            <a:endCxn id="346" idx="0"/>
          </p:cNvCxnSpPr>
          <p:nvPr/>
        </p:nvCxnSpPr>
        <p:spPr>
          <a:xfrm flipH="1" rot="16200000">
            <a:off x="2002320" y="3616920"/>
            <a:ext cx="132480" cy="1042200"/>
          </a:xfrm>
          <a:prstGeom prst="curvedConnector5">
            <a:avLst>
              <a:gd name="adj1" fmla="val -173297"/>
              <a:gd name="adj2" fmla="val 50000"/>
              <a:gd name="adj3" fmla="val -17329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58" name=""/>
          <p:cNvCxnSpPr>
            <a:stCxn id="339" idx="2"/>
            <a:endCxn id="340" idx="3"/>
          </p:cNvCxnSpPr>
          <p:nvPr/>
        </p:nvCxnSpPr>
        <p:spPr>
          <a:xfrm flipH="1" rot="10800000">
            <a:off x="6262200" y="4571280"/>
            <a:ext cx="285120" cy="1067400"/>
          </a:xfrm>
          <a:prstGeom prst="curvedConnector5">
            <a:avLst>
              <a:gd name="adj1" fmla="val -80404"/>
              <a:gd name="adj2" fmla="val 30398"/>
              <a:gd name="adj3" fmla="val -80404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59" name=""/>
          <p:cNvCxnSpPr>
            <a:stCxn id="352" idx="0"/>
            <a:endCxn id="336" idx="2"/>
          </p:cNvCxnSpPr>
          <p:nvPr/>
        </p:nvCxnSpPr>
        <p:spPr>
          <a:xfrm flipH="1" rot="16200000">
            <a:off x="2662920" y="-431280"/>
            <a:ext cx="1621440" cy="5147640"/>
          </a:xfrm>
          <a:prstGeom prst="curvedConnector5">
            <a:avLst>
              <a:gd name="adj1" fmla="val -14101"/>
              <a:gd name="adj2" fmla="val 48237"/>
              <a:gd name="adj3" fmla="val -1410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0" name=""/>
          <p:cNvCxnSpPr>
            <a:stCxn id="334" idx="7"/>
            <a:endCxn id="350" idx="4"/>
          </p:cNvCxnSpPr>
          <p:nvPr/>
        </p:nvCxnSpPr>
        <p:spPr>
          <a:xfrm flipH="1" flipV="1" rot="5400000">
            <a:off x="1538640" y="1994400"/>
            <a:ext cx="742320" cy="861120"/>
          </a:xfrm>
          <a:prstGeom prst="curvedConnector5">
            <a:avLst>
              <a:gd name="adj1" fmla="val 56525"/>
              <a:gd name="adj2" fmla="val 49979"/>
              <a:gd name="adj3" fmla="val 5652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1" name=""/>
          <p:cNvCxnSpPr>
            <a:stCxn id="350" idx="6"/>
            <a:endCxn id="340" idx="7"/>
          </p:cNvCxnSpPr>
          <p:nvPr/>
        </p:nvCxnSpPr>
        <p:spPr>
          <a:xfrm>
            <a:off x="3059280" y="1730160"/>
            <a:ext cx="4505760" cy="2383560"/>
          </a:xfrm>
          <a:prstGeom prst="curvedConnector2">
            <a:avLst/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2" name=""/>
          <p:cNvCxnSpPr>
            <a:stCxn id="352" idx="7"/>
            <a:endCxn id="337" idx="1"/>
          </p:cNvCxnSpPr>
          <p:nvPr/>
        </p:nvCxnSpPr>
        <p:spPr>
          <a:xfrm flipH="1" rot="16200000">
            <a:off x="3868200" y="-1034640"/>
            <a:ext cx="2520" cy="4923720"/>
          </a:xfrm>
          <a:prstGeom prst="curvedConnector5">
            <a:avLst>
              <a:gd name="adj1" fmla="val -20400000"/>
              <a:gd name="adj2" fmla="val 50000"/>
              <a:gd name="adj3" fmla="val -2040000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3" name=""/>
          <p:cNvCxnSpPr>
            <a:stCxn id="345" idx="4"/>
            <a:endCxn id="348" idx="1"/>
          </p:cNvCxnSpPr>
          <p:nvPr/>
        </p:nvCxnSpPr>
        <p:spPr>
          <a:xfrm flipH="1" rot="16200000">
            <a:off x="1931760" y="4336560"/>
            <a:ext cx="492840" cy="1261440"/>
          </a:xfrm>
          <a:prstGeom prst="curvedConnector5">
            <a:avLst>
              <a:gd name="adj1" fmla="val 39985"/>
              <a:gd name="adj2" fmla="val 49985"/>
              <a:gd name="adj3" fmla="val 3998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4" name=""/>
          <p:cNvCxnSpPr>
            <a:stCxn id="346" idx="4"/>
            <a:endCxn id="348" idx="1"/>
          </p:cNvCxnSpPr>
          <p:nvPr/>
        </p:nvCxnSpPr>
        <p:spPr>
          <a:xfrm flipH="1" rot="16200000">
            <a:off x="2517480" y="4923360"/>
            <a:ext cx="361080" cy="219960"/>
          </a:xfrm>
          <a:prstGeom prst="curvedConnector5">
            <a:avLst>
              <a:gd name="adj1" fmla="val 36526"/>
              <a:gd name="adj2" fmla="val 50000"/>
              <a:gd name="adj3" fmla="val 3652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5" name=""/>
          <p:cNvCxnSpPr>
            <a:stCxn id="346" idx="0"/>
            <a:endCxn id="347" idx="0"/>
          </p:cNvCxnSpPr>
          <p:nvPr/>
        </p:nvCxnSpPr>
        <p:spPr>
          <a:xfrm flipH="1" rot="16200000">
            <a:off x="2881080" y="3910320"/>
            <a:ext cx="353160" cy="937440"/>
          </a:xfrm>
          <a:prstGeom prst="curvedConnector5">
            <a:avLst>
              <a:gd name="adj1" fmla="val -64795"/>
              <a:gd name="adj2" fmla="val 49980"/>
              <a:gd name="adj3" fmla="val -6479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6" name=""/>
          <p:cNvCxnSpPr>
            <a:stCxn id="345" idx="3"/>
            <a:endCxn id="326" idx="0"/>
          </p:cNvCxnSpPr>
          <p:nvPr/>
        </p:nvCxnSpPr>
        <p:spPr>
          <a:xfrm flipH="1" rot="16200000">
            <a:off x="812880" y="4951440"/>
            <a:ext cx="989280" cy="337320"/>
          </a:xfrm>
          <a:prstGeom prst="curvedConnector5">
            <a:avLst>
              <a:gd name="adj1" fmla="val 54750"/>
              <a:gd name="adj2" fmla="val 50000"/>
              <a:gd name="adj3" fmla="val 5475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7" name=""/>
          <p:cNvCxnSpPr>
            <a:stCxn id="344" idx="6"/>
            <a:endCxn id="347" idx="6"/>
          </p:cNvCxnSpPr>
          <p:nvPr/>
        </p:nvCxnSpPr>
        <p:spPr>
          <a:xfrm flipV="1">
            <a:off x="2957400" y="4880880"/>
            <a:ext cx="1145520" cy="965880"/>
          </a:xfrm>
          <a:prstGeom prst="curvedConnector5">
            <a:avLst>
              <a:gd name="adj1" fmla="val 129801"/>
              <a:gd name="adj2" fmla="val 50000"/>
              <a:gd name="adj3" fmla="val 12980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8" name=""/>
          <p:cNvCxnSpPr>
            <a:stCxn id="347" idx="6"/>
            <a:endCxn id="348" idx="6"/>
          </p:cNvCxnSpPr>
          <p:nvPr/>
        </p:nvCxnSpPr>
        <p:spPr>
          <a:xfrm flipH="1">
            <a:off x="3792240" y="4881240"/>
            <a:ext cx="310320" cy="562680"/>
          </a:xfrm>
          <a:prstGeom prst="curvedConnector5">
            <a:avLst>
              <a:gd name="adj1" fmla="val -73751"/>
              <a:gd name="adj2" fmla="val 50000"/>
              <a:gd name="adj3" fmla="val -7375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69" name=""/>
          <p:cNvCxnSpPr>
            <a:stCxn id="343" idx="0"/>
            <a:endCxn id="345" idx="0"/>
          </p:cNvCxnSpPr>
          <p:nvPr/>
        </p:nvCxnSpPr>
        <p:spPr>
          <a:xfrm flipH="1" flipV="1" rot="5400000">
            <a:off x="969480" y="3709800"/>
            <a:ext cx="216720" cy="940320"/>
          </a:xfrm>
          <a:prstGeom prst="curvedConnector5">
            <a:avLst>
              <a:gd name="adj1" fmla="val 205823"/>
              <a:gd name="adj2" fmla="val 49980"/>
              <a:gd name="adj3" fmla="val 205823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0" name=""/>
          <p:cNvCxnSpPr>
            <a:stCxn id="334" idx="4"/>
            <a:endCxn id="347" idx="0"/>
          </p:cNvCxnSpPr>
          <p:nvPr/>
        </p:nvCxnSpPr>
        <p:spPr>
          <a:xfrm flipH="1" rot="16200000">
            <a:off x="1644480" y="2675520"/>
            <a:ext cx="1207080" cy="2554920"/>
          </a:xfrm>
          <a:prstGeom prst="curvedConnector5">
            <a:avLst>
              <a:gd name="adj1" fmla="val 17362"/>
              <a:gd name="adj2" fmla="val 50000"/>
              <a:gd name="adj3" fmla="val 1736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1" name=""/>
          <p:cNvCxnSpPr>
            <a:stCxn id="334" idx="5"/>
            <a:endCxn id="354" idx="0"/>
          </p:cNvCxnSpPr>
          <p:nvPr/>
        </p:nvCxnSpPr>
        <p:spPr>
          <a:xfrm flipH="1" rot="16200000">
            <a:off x="2325600" y="2407320"/>
            <a:ext cx="535680" cy="2229480"/>
          </a:xfrm>
          <a:prstGeom prst="curvedConnector5">
            <a:avLst>
              <a:gd name="adj1" fmla="val 58708"/>
              <a:gd name="adj2" fmla="val 50000"/>
              <a:gd name="adj3" fmla="val 58708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2" name=""/>
          <p:cNvCxnSpPr>
            <a:stCxn id="354" idx="7"/>
            <a:endCxn id="336" idx="3"/>
          </p:cNvCxnSpPr>
          <p:nvPr/>
        </p:nvCxnSpPr>
        <p:spPr>
          <a:xfrm flipH="1" flipV="1" rot="5400000">
            <a:off x="4834800" y="2461680"/>
            <a:ext cx="704160" cy="2142360"/>
          </a:xfrm>
          <a:prstGeom prst="curvedConnector5">
            <a:avLst>
              <a:gd name="adj1" fmla="val 50076"/>
              <a:gd name="adj2" fmla="val 50000"/>
              <a:gd name="adj3" fmla="val 5007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3" name=""/>
          <p:cNvCxnSpPr>
            <a:stCxn id="355" idx="5"/>
            <a:endCxn id="340" idx="1"/>
          </p:cNvCxnSpPr>
          <p:nvPr/>
        </p:nvCxnSpPr>
        <p:spPr>
          <a:xfrm flipH="1" rot="16200000">
            <a:off x="4932360" y="2498400"/>
            <a:ext cx="923040" cy="2307600"/>
          </a:xfrm>
          <a:prstGeom prst="curvedConnector5">
            <a:avLst>
              <a:gd name="adj1" fmla="val 49902"/>
              <a:gd name="adj2" fmla="val 49992"/>
              <a:gd name="adj3" fmla="val 4990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4" name=""/>
          <p:cNvCxnSpPr>
            <a:stCxn id="355" idx="3"/>
            <a:endCxn id="347" idx="0"/>
          </p:cNvCxnSpPr>
          <p:nvPr/>
        </p:nvCxnSpPr>
        <p:spPr>
          <a:xfrm flipH="1" rot="16200000">
            <a:off x="2769840" y="3801240"/>
            <a:ext cx="1365840" cy="144720"/>
          </a:xfrm>
          <a:prstGeom prst="curvedConnector5">
            <a:avLst>
              <a:gd name="adj1" fmla="val 53361"/>
              <a:gd name="adj2" fmla="val 49875"/>
              <a:gd name="adj3" fmla="val 5336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5" name=""/>
          <p:cNvCxnSpPr>
            <a:stCxn id="354" idx="7"/>
            <a:endCxn id="338" idx="3"/>
          </p:cNvCxnSpPr>
          <p:nvPr/>
        </p:nvCxnSpPr>
        <p:spPr>
          <a:xfrm flipH="1" flipV="1" rot="5400000">
            <a:off x="5519880" y="1705320"/>
            <a:ext cx="775440" cy="35838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6" name=""/>
          <p:cNvCxnSpPr>
            <a:stCxn id="354" idx="7"/>
            <a:endCxn id="337" idx="3"/>
          </p:cNvCxnSpPr>
          <p:nvPr/>
        </p:nvCxnSpPr>
        <p:spPr>
          <a:xfrm flipH="1" flipV="1" rot="5400000">
            <a:off x="4223880" y="1777680"/>
            <a:ext cx="1999440" cy="2215440"/>
          </a:xfrm>
          <a:prstGeom prst="curvedConnector5">
            <a:avLst>
              <a:gd name="adj1" fmla="val 50027"/>
              <a:gd name="adj2" fmla="val 49991"/>
              <a:gd name="adj3" fmla="val 5002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7" name=""/>
          <p:cNvCxnSpPr>
            <a:stCxn id="354" idx="5"/>
            <a:endCxn id="340" idx="2"/>
          </p:cNvCxnSpPr>
          <p:nvPr/>
        </p:nvCxnSpPr>
        <p:spPr>
          <a:xfrm flipH="1" rot="16200000">
            <a:off x="5224320" y="3234240"/>
            <a:ext cx="2160" cy="2220120"/>
          </a:xfrm>
          <a:prstGeom prst="curvedConnector5">
            <a:avLst>
              <a:gd name="adj1" fmla="val 20300000"/>
              <a:gd name="adj2" fmla="val 26889"/>
              <a:gd name="adj3" fmla="val 2030000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8" name=""/>
          <p:cNvCxnSpPr>
            <a:stCxn id="350" idx="7"/>
            <a:endCxn id="349" idx="1"/>
          </p:cNvCxnSpPr>
          <p:nvPr/>
        </p:nvCxnSpPr>
        <p:spPr>
          <a:xfrm flipH="1" flipV="1" rot="5400000">
            <a:off x="5204520" y="-1001520"/>
            <a:ext cx="144720" cy="4858560"/>
          </a:xfrm>
          <a:prstGeom prst="curvedConnector5">
            <a:avLst>
              <a:gd name="adj1" fmla="val 324937"/>
              <a:gd name="adj2" fmla="val 49996"/>
              <a:gd name="adj3" fmla="val 32493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79" name=""/>
          <p:cNvCxnSpPr>
            <a:stCxn id="342" idx="0"/>
            <a:endCxn id="331" idx="2"/>
          </p:cNvCxnSpPr>
          <p:nvPr/>
        </p:nvCxnSpPr>
        <p:spPr>
          <a:xfrm flipV="1" rot="16200000">
            <a:off x="-1173960" y="3728160"/>
            <a:ext cx="3102840" cy="397800"/>
          </a:xfrm>
          <a:prstGeom prst="curvedConnector5">
            <a:avLst>
              <a:gd name="adj1" fmla="val 42422"/>
              <a:gd name="adj2" fmla="val 64583"/>
              <a:gd name="adj3" fmla="val 4242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80" name=""/>
          <p:cNvCxnSpPr>
            <a:stCxn id="324" idx="6"/>
            <a:endCxn id="340" idx="0"/>
          </p:cNvCxnSpPr>
          <p:nvPr/>
        </p:nvCxnSpPr>
        <p:spPr>
          <a:xfrm>
            <a:off x="6516360" y="3322440"/>
            <a:ext cx="540360" cy="695520"/>
          </a:xfrm>
          <a:prstGeom prst="curvedConnector2">
            <a:avLst/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381" name=""/>
          <p:cNvCxnSpPr>
            <a:stCxn id="335" idx="4"/>
            <a:endCxn id="347" idx="0"/>
          </p:cNvCxnSpPr>
          <p:nvPr/>
        </p:nvCxnSpPr>
        <p:spPr>
          <a:xfrm flipH="1" rot="16200000">
            <a:off x="2329200" y="3360600"/>
            <a:ext cx="1278720" cy="1113120"/>
          </a:xfrm>
          <a:prstGeom prst="curvedConnector5">
            <a:avLst>
              <a:gd name="adj1" fmla="val 49929"/>
              <a:gd name="adj2" fmla="val 49983"/>
              <a:gd name="adj3" fmla="val 49929"/>
            </a:avLst>
          </a:prstGeom>
          <a:ln cap="sq" w="12600">
            <a:solidFill>
              <a:srgbClr val="ff99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FEF0E-49CD-4285-A91D-318DBD79B1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-181080" y="1052640"/>
            <a:ext cx="4321440" cy="25207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09800" y="2492280"/>
            <a:ext cx="3672000" cy="21607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-244440" y="3898800"/>
            <a:ext cx="4392720" cy="26989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897520" y="3898800"/>
            <a:ext cx="3348000" cy="223200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788080" y="1090440"/>
            <a:ext cx="3557520" cy="2482920"/>
          </a:xfrm>
          <a:prstGeom prst="ellipse">
            <a:avLst/>
          </a:prstGeom>
          <a:solidFill>
            <a:srgbClr val="3366ff"/>
          </a:solidFill>
          <a:ln cap="sq"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364000" y="29973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466092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56149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393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79280" y="190800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80000" y="45212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156360" y="176364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0920" y="27003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92360" y="262908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46920" y="2627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11964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488360" y="255600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262560" y="53132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335640" y="40179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04000" y="53863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54784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428796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805040" y="55213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71640" y="40719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13120" y="42037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49480" y="45561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39880" y="51181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494480" y="1260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19280" y="140508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771640" y="190800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86064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27640" y="25653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1" name=""/>
          <p:cNvCxnSpPr>
            <a:stCxn id="409" idx="0"/>
            <a:endCxn id="410" idx="0"/>
          </p:cNvCxnSpPr>
          <p:nvPr/>
        </p:nvCxnSpPr>
        <p:spPr>
          <a:xfrm flipH="1" rot="16200000">
            <a:off x="2002320" y="3616920"/>
            <a:ext cx="132480" cy="1042200"/>
          </a:xfrm>
          <a:prstGeom prst="curvedConnector5">
            <a:avLst>
              <a:gd name="adj1" fmla="val -173297"/>
              <a:gd name="adj2" fmla="val 50000"/>
              <a:gd name="adj3" fmla="val -17329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2" name=""/>
          <p:cNvCxnSpPr>
            <a:stCxn id="403" idx="2"/>
            <a:endCxn id="404" idx="3"/>
          </p:cNvCxnSpPr>
          <p:nvPr/>
        </p:nvCxnSpPr>
        <p:spPr>
          <a:xfrm flipH="1" rot="10800000">
            <a:off x="6262200" y="4571280"/>
            <a:ext cx="285120" cy="1067400"/>
          </a:xfrm>
          <a:prstGeom prst="curvedConnector5">
            <a:avLst>
              <a:gd name="adj1" fmla="val -80404"/>
              <a:gd name="adj2" fmla="val 30398"/>
              <a:gd name="adj3" fmla="val -80404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3" name=""/>
          <p:cNvCxnSpPr>
            <a:stCxn id="416" idx="0"/>
            <a:endCxn id="400" idx="2"/>
          </p:cNvCxnSpPr>
          <p:nvPr/>
        </p:nvCxnSpPr>
        <p:spPr>
          <a:xfrm flipH="1" rot="16200000">
            <a:off x="2662920" y="-431280"/>
            <a:ext cx="1621440" cy="5147640"/>
          </a:xfrm>
          <a:prstGeom prst="curvedConnector5">
            <a:avLst>
              <a:gd name="adj1" fmla="val -14101"/>
              <a:gd name="adj2" fmla="val 48237"/>
              <a:gd name="adj3" fmla="val -1410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4" name=""/>
          <p:cNvCxnSpPr>
            <a:stCxn id="398" idx="7"/>
            <a:endCxn id="414" idx="4"/>
          </p:cNvCxnSpPr>
          <p:nvPr/>
        </p:nvCxnSpPr>
        <p:spPr>
          <a:xfrm flipH="1" flipV="1" rot="5400000">
            <a:off x="1538640" y="1994400"/>
            <a:ext cx="742320" cy="861120"/>
          </a:xfrm>
          <a:prstGeom prst="curvedConnector5">
            <a:avLst>
              <a:gd name="adj1" fmla="val 56525"/>
              <a:gd name="adj2" fmla="val 49979"/>
              <a:gd name="adj3" fmla="val 5652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5" name=""/>
          <p:cNvCxnSpPr>
            <a:stCxn id="414" idx="6"/>
            <a:endCxn id="404" idx="7"/>
          </p:cNvCxnSpPr>
          <p:nvPr/>
        </p:nvCxnSpPr>
        <p:spPr>
          <a:xfrm>
            <a:off x="3059280" y="1730160"/>
            <a:ext cx="4505760" cy="2383560"/>
          </a:xfrm>
          <a:prstGeom prst="curvedConnector2">
            <a:avLst/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6" name=""/>
          <p:cNvCxnSpPr>
            <a:stCxn id="416" idx="7"/>
            <a:endCxn id="401" idx="1"/>
          </p:cNvCxnSpPr>
          <p:nvPr/>
        </p:nvCxnSpPr>
        <p:spPr>
          <a:xfrm flipH="1" rot="16200000">
            <a:off x="3868200" y="-1034640"/>
            <a:ext cx="2520" cy="4923720"/>
          </a:xfrm>
          <a:prstGeom prst="curvedConnector5">
            <a:avLst>
              <a:gd name="adj1" fmla="val -20400000"/>
              <a:gd name="adj2" fmla="val 50000"/>
              <a:gd name="adj3" fmla="val -2040000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7" name=""/>
          <p:cNvCxnSpPr>
            <a:stCxn id="409" idx="4"/>
            <a:endCxn id="412" idx="1"/>
          </p:cNvCxnSpPr>
          <p:nvPr/>
        </p:nvCxnSpPr>
        <p:spPr>
          <a:xfrm flipH="1" rot="16200000">
            <a:off x="1931760" y="4336560"/>
            <a:ext cx="492840" cy="1261440"/>
          </a:xfrm>
          <a:prstGeom prst="curvedConnector5">
            <a:avLst>
              <a:gd name="adj1" fmla="val 39985"/>
              <a:gd name="adj2" fmla="val 49985"/>
              <a:gd name="adj3" fmla="val 3998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8" name=""/>
          <p:cNvCxnSpPr>
            <a:stCxn id="410" idx="4"/>
            <a:endCxn id="412" idx="1"/>
          </p:cNvCxnSpPr>
          <p:nvPr/>
        </p:nvCxnSpPr>
        <p:spPr>
          <a:xfrm flipH="1" rot="16200000">
            <a:off x="2517480" y="4923360"/>
            <a:ext cx="361080" cy="219960"/>
          </a:xfrm>
          <a:prstGeom prst="curvedConnector5">
            <a:avLst>
              <a:gd name="adj1" fmla="val 36526"/>
              <a:gd name="adj2" fmla="val 50000"/>
              <a:gd name="adj3" fmla="val 3652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29" name=""/>
          <p:cNvCxnSpPr>
            <a:stCxn id="410" idx="0"/>
            <a:endCxn id="411" idx="0"/>
          </p:cNvCxnSpPr>
          <p:nvPr/>
        </p:nvCxnSpPr>
        <p:spPr>
          <a:xfrm flipH="1" rot="16200000">
            <a:off x="2881080" y="3910320"/>
            <a:ext cx="353160" cy="937440"/>
          </a:xfrm>
          <a:prstGeom prst="curvedConnector5">
            <a:avLst>
              <a:gd name="adj1" fmla="val -64795"/>
              <a:gd name="adj2" fmla="val 49980"/>
              <a:gd name="adj3" fmla="val -64795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0" name=""/>
          <p:cNvCxnSpPr>
            <a:stCxn id="409" idx="3"/>
            <a:endCxn id="390" idx="0"/>
          </p:cNvCxnSpPr>
          <p:nvPr/>
        </p:nvCxnSpPr>
        <p:spPr>
          <a:xfrm flipH="1" rot="16200000">
            <a:off x="812880" y="4951440"/>
            <a:ext cx="989280" cy="337320"/>
          </a:xfrm>
          <a:prstGeom prst="curvedConnector5">
            <a:avLst>
              <a:gd name="adj1" fmla="val 54750"/>
              <a:gd name="adj2" fmla="val 50000"/>
              <a:gd name="adj3" fmla="val 5475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1" name=""/>
          <p:cNvCxnSpPr>
            <a:stCxn id="408" idx="6"/>
            <a:endCxn id="411" idx="6"/>
          </p:cNvCxnSpPr>
          <p:nvPr/>
        </p:nvCxnSpPr>
        <p:spPr>
          <a:xfrm flipV="1">
            <a:off x="2957400" y="4880880"/>
            <a:ext cx="1145520" cy="965880"/>
          </a:xfrm>
          <a:prstGeom prst="curvedConnector5">
            <a:avLst>
              <a:gd name="adj1" fmla="val 129801"/>
              <a:gd name="adj2" fmla="val 50000"/>
              <a:gd name="adj3" fmla="val 12980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2" name=""/>
          <p:cNvCxnSpPr>
            <a:stCxn id="411" idx="6"/>
            <a:endCxn id="412" idx="6"/>
          </p:cNvCxnSpPr>
          <p:nvPr/>
        </p:nvCxnSpPr>
        <p:spPr>
          <a:xfrm flipH="1">
            <a:off x="3792240" y="4881240"/>
            <a:ext cx="310320" cy="562680"/>
          </a:xfrm>
          <a:prstGeom prst="curvedConnector5">
            <a:avLst>
              <a:gd name="adj1" fmla="val -73751"/>
              <a:gd name="adj2" fmla="val 50000"/>
              <a:gd name="adj3" fmla="val -7375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3" name=""/>
          <p:cNvCxnSpPr>
            <a:stCxn id="407" idx="0"/>
            <a:endCxn id="409" idx="0"/>
          </p:cNvCxnSpPr>
          <p:nvPr/>
        </p:nvCxnSpPr>
        <p:spPr>
          <a:xfrm flipH="1" flipV="1" rot="5400000">
            <a:off x="969480" y="3709800"/>
            <a:ext cx="216720" cy="940320"/>
          </a:xfrm>
          <a:prstGeom prst="curvedConnector5">
            <a:avLst>
              <a:gd name="adj1" fmla="val 205823"/>
              <a:gd name="adj2" fmla="val 49980"/>
              <a:gd name="adj3" fmla="val 205823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4" name=""/>
          <p:cNvCxnSpPr>
            <a:stCxn id="398" idx="4"/>
            <a:endCxn id="411" idx="0"/>
          </p:cNvCxnSpPr>
          <p:nvPr/>
        </p:nvCxnSpPr>
        <p:spPr>
          <a:xfrm flipH="1" rot="16200000">
            <a:off x="1644480" y="2675520"/>
            <a:ext cx="1207080" cy="2554920"/>
          </a:xfrm>
          <a:prstGeom prst="curvedConnector5">
            <a:avLst>
              <a:gd name="adj1" fmla="val 17362"/>
              <a:gd name="adj2" fmla="val 50000"/>
              <a:gd name="adj3" fmla="val 1736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5" name=""/>
          <p:cNvCxnSpPr>
            <a:stCxn id="398" idx="5"/>
            <a:endCxn id="418" idx="0"/>
          </p:cNvCxnSpPr>
          <p:nvPr/>
        </p:nvCxnSpPr>
        <p:spPr>
          <a:xfrm flipH="1" rot="16200000">
            <a:off x="2325600" y="2407320"/>
            <a:ext cx="535680" cy="2229480"/>
          </a:xfrm>
          <a:prstGeom prst="curvedConnector5">
            <a:avLst>
              <a:gd name="adj1" fmla="val 58708"/>
              <a:gd name="adj2" fmla="val 50000"/>
              <a:gd name="adj3" fmla="val 58708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6" name=""/>
          <p:cNvCxnSpPr>
            <a:stCxn id="418" idx="7"/>
            <a:endCxn id="400" idx="3"/>
          </p:cNvCxnSpPr>
          <p:nvPr/>
        </p:nvCxnSpPr>
        <p:spPr>
          <a:xfrm flipH="1" flipV="1" rot="5400000">
            <a:off x="4834800" y="2461680"/>
            <a:ext cx="704160" cy="2142360"/>
          </a:xfrm>
          <a:prstGeom prst="curvedConnector5">
            <a:avLst>
              <a:gd name="adj1" fmla="val 50076"/>
              <a:gd name="adj2" fmla="val 50000"/>
              <a:gd name="adj3" fmla="val 5007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7" name=""/>
          <p:cNvCxnSpPr>
            <a:stCxn id="419" idx="5"/>
            <a:endCxn id="404" idx="1"/>
          </p:cNvCxnSpPr>
          <p:nvPr/>
        </p:nvCxnSpPr>
        <p:spPr>
          <a:xfrm flipH="1" rot="16200000">
            <a:off x="4932360" y="2498400"/>
            <a:ext cx="923040" cy="2307600"/>
          </a:xfrm>
          <a:prstGeom prst="curvedConnector5">
            <a:avLst>
              <a:gd name="adj1" fmla="val 49902"/>
              <a:gd name="adj2" fmla="val 49992"/>
              <a:gd name="adj3" fmla="val 4990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8" name=""/>
          <p:cNvCxnSpPr>
            <a:stCxn id="419" idx="3"/>
            <a:endCxn id="411" idx="0"/>
          </p:cNvCxnSpPr>
          <p:nvPr/>
        </p:nvCxnSpPr>
        <p:spPr>
          <a:xfrm flipH="1" rot="16200000">
            <a:off x="2769840" y="3801240"/>
            <a:ext cx="1365840" cy="144720"/>
          </a:xfrm>
          <a:prstGeom prst="curvedConnector5">
            <a:avLst>
              <a:gd name="adj1" fmla="val 53361"/>
              <a:gd name="adj2" fmla="val 49875"/>
              <a:gd name="adj3" fmla="val 53361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39" name=""/>
          <p:cNvCxnSpPr>
            <a:stCxn id="418" idx="7"/>
            <a:endCxn id="402" idx="3"/>
          </p:cNvCxnSpPr>
          <p:nvPr/>
        </p:nvCxnSpPr>
        <p:spPr>
          <a:xfrm flipH="1" flipV="1" rot="5400000">
            <a:off x="5519880" y="1705320"/>
            <a:ext cx="775440" cy="358380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0" name=""/>
          <p:cNvCxnSpPr>
            <a:stCxn id="418" idx="7"/>
            <a:endCxn id="401" idx="3"/>
          </p:cNvCxnSpPr>
          <p:nvPr/>
        </p:nvCxnSpPr>
        <p:spPr>
          <a:xfrm flipH="1" flipV="1" rot="5400000">
            <a:off x="4223880" y="1777680"/>
            <a:ext cx="1999440" cy="2215440"/>
          </a:xfrm>
          <a:prstGeom prst="curvedConnector5">
            <a:avLst>
              <a:gd name="adj1" fmla="val 50027"/>
              <a:gd name="adj2" fmla="val 49991"/>
              <a:gd name="adj3" fmla="val 5002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1" name=""/>
          <p:cNvCxnSpPr>
            <a:stCxn id="418" idx="5"/>
            <a:endCxn id="404" idx="2"/>
          </p:cNvCxnSpPr>
          <p:nvPr/>
        </p:nvCxnSpPr>
        <p:spPr>
          <a:xfrm flipH="1" rot="16200000">
            <a:off x="5224320" y="3234240"/>
            <a:ext cx="2160" cy="2220120"/>
          </a:xfrm>
          <a:prstGeom prst="curvedConnector5">
            <a:avLst>
              <a:gd name="adj1" fmla="val 20300000"/>
              <a:gd name="adj2" fmla="val 26889"/>
              <a:gd name="adj3" fmla="val 20300000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2" name=""/>
          <p:cNvCxnSpPr>
            <a:stCxn id="414" idx="7"/>
            <a:endCxn id="413" idx="1"/>
          </p:cNvCxnSpPr>
          <p:nvPr/>
        </p:nvCxnSpPr>
        <p:spPr>
          <a:xfrm flipH="1" flipV="1" rot="5400000">
            <a:off x="5204520" y="-1001520"/>
            <a:ext cx="144720" cy="4858560"/>
          </a:xfrm>
          <a:prstGeom prst="curvedConnector5">
            <a:avLst>
              <a:gd name="adj1" fmla="val 324937"/>
              <a:gd name="adj2" fmla="val 49996"/>
              <a:gd name="adj3" fmla="val 324937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3" name=""/>
          <p:cNvCxnSpPr>
            <a:stCxn id="406" idx="0"/>
            <a:endCxn id="395" idx="2"/>
          </p:cNvCxnSpPr>
          <p:nvPr/>
        </p:nvCxnSpPr>
        <p:spPr>
          <a:xfrm flipV="1" rot="16200000">
            <a:off x="-1173960" y="3728160"/>
            <a:ext cx="3102840" cy="397800"/>
          </a:xfrm>
          <a:prstGeom prst="curvedConnector5">
            <a:avLst>
              <a:gd name="adj1" fmla="val 42422"/>
              <a:gd name="adj2" fmla="val 64583"/>
              <a:gd name="adj3" fmla="val 42422"/>
            </a:avLst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4" name=""/>
          <p:cNvCxnSpPr>
            <a:stCxn id="388" idx="6"/>
            <a:endCxn id="404" idx="0"/>
          </p:cNvCxnSpPr>
          <p:nvPr/>
        </p:nvCxnSpPr>
        <p:spPr>
          <a:xfrm>
            <a:off x="6516360" y="3322440"/>
            <a:ext cx="540360" cy="695520"/>
          </a:xfrm>
          <a:prstGeom prst="curvedConnector2">
            <a:avLst/>
          </a:prstGeom>
          <a:ln cap="sq" w="12600">
            <a:solidFill>
              <a:srgbClr val="ff9900"/>
            </a:solidFill>
            <a:miter/>
          </a:ln>
        </p:spPr>
      </p:cxnSp>
      <p:cxnSp>
        <p:nvCxnSpPr>
          <p:cNvPr id="445" name=""/>
          <p:cNvCxnSpPr>
            <a:stCxn id="399" idx="4"/>
            <a:endCxn id="411" idx="0"/>
          </p:cNvCxnSpPr>
          <p:nvPr/>
        </p:nvCxnSpPr>
        <p:spPr>
          <a:xfrm flipH="1" rot="16200000">
            <a:off x="2329200" y="3360600"/>
            <a:ext cx="1278720" cy="1113120"/>
          </a:xfrm>
          <a:prstGeom prst="curvedConnector5">
            <a:avLst>
              <a:gd name="adj1" fmla="val 49929"/>
              <a:gd name="adj2" fmla="val 49983"/>
              <a:gd name="adj3" fmla="val 49929"/>
            </a:avLst>
          </a:prstGeom>
          <a:ln cap="sq" w="12600">
            <a:solidFill>
              <a:srgbClr val="ff9900"/>
            </a:solidFill>
            <a:miter/>
          </a:ln>
        </p:spPr>
      </p:cxnSp>
      <p:sp>
        <p:nvSpPr>
          <p:cNvPr id="446" name=""/>
          <p:cNvSpPr/>
          <p:nvPr/>
        </p:nvSpPr>
        <p:spPr>
          <a:xfrm>
            <a:off x="5364000" y="364320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ccecff"/>
                </a:solidFill>
                <a:latin typeface="Times New Roman"/>
              </a:rPr>
              <a:t>Employ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ccecff"/>
                </a:solidFill>
                <a:latin typeface="Times New Roman"/>
              </a:rPr>
              <a:t>Demograph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556000" y="32130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/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336E-0AD6-4243-A298-06DB1E9A3C32}" type="slidenum">
              <a:t>13</a:t>
            </a:fld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0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5364000" y="29973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6149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Underlying Features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452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250920" y="27003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692360" y="262908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46920" y="2627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11964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488360" y="255600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262560" y="53132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335640" y="40179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704000" y="53863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54784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428796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05040" y="55213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71640" y="40719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013120" y="42037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949480" y="45561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39880" y="51181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494480" y="1260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619280" y="140508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71640" y="190800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928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282920" y="38606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2565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73080" y="6381720"/>
            <a:ext cx="2411280" cy="405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33cc"/>
                </a:solidFill>
                <a:latin typeface="Verdana"/>
              </a:rPr>
              <a:t>Electronic Document M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56000" y="6389640"/>
            <a:ext cx="2411280" cy="405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33cc"/>
                </a:solidFill>
                <a:latin typeface="Verdana"/>
              </a:rPr>
              <a:t>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64000" y="364320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ff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ff"/>
                </a:solidFill>
                <a:latin typeface="Times New Roman"/>
              </a:rPr>
              <a:t>Demograph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556000" y="321300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ff"/>
                </a:solidFill>
                <a:latin typeface="Times New Roman"/>
              </a:rPr>
              <a:t>Trai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ff"/>
                </a:solidFill>
                <a:latin typeface="Times New Roman"/>
              </a:rPr>
              <a:t>/ 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1" name=""/>
          <p:cNvCxnSpPr>
            <a:stCxn id="477" idx="0"/>
            <a:endCxn id="482" idx="3"/>
          </p:cNvCxnSpPr>
          <p:nvPr/>
        </p:nvCxnSpPr>
        <p:spPr>
          <a:xfrm flipV="1">
            <a:off x="1279440" y="2623680"/>
            <a:ext cx="5268240" cy="375840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83" name=""/>
          <p:cNvCxnSpPr>
            <a:stCxn id="477" idx="0"/>
            <a:endCxn id="484" idx="3"/>
          </p:cNvCxnSpPr>
          <p:nvPr/>
        </p:nvCxnSpPr>
        <p:spPr>
          <a:xfrm flipH="1" flipV="1">
            <a:off x="569160" y="5520960"/>
            <a:ext cx="710280" cy="86112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85" name=""/>
          <p:cNvCxnSpPr>
            <a:stCxn id="477" idx="0"/>
            <a:endCxn id="486" idx="4"/>
          </p:cNvCxnSpPr>
          <p:nvPr/>
        </p:nvCxnSpPr>
        <p:spPr>
          <a:xfrm flipV="1">
            <a:off x="1279440" y="2844000"/>
            <a:ext cx="232560" cy="353772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87" name=""/>
          <p:cNvCxnSpPr>
            <a:stCxn id="477" idx="0"/>
            <a:endCxn id="488" idx="3"/>
          </p:cNvCxnSpPr>
          <p:nvPr/>
        </p:nvCxnSpPr>
        <p:spPr>
          <a:xfrm flipV="1">
            <a:off x="1279440" y="3868200"/>
            <a:ext cx="2315520" cy="251352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89" name=""/>
          <p:cNvCxnSpPr>
            <a:stCxn id="477" idx="0"/>
            <a:endCxn id="490" idx="2"/>
          </p:cNvCxnSpPr>
          <p:nvPr/>
        </p:nvCxnSpPr>
        <p:spPr>
          <a:xfrm flipV="1">
            <a:off x="1279440" y="5025960"/>
            <a:ext cx="5201280" cy="1356120"/>
          </a:xfrm>
          <a:prstGeom prst="straightConnector1">
            <a:avLst/>
          </a:prstGeom>
          <a:ln cap="sq" w="12600">
            <a:solidFill>
              <a:srgbClr val="ffcc99"/>
            </a:solidFill>
            <a:miter/>
            <a:tailEnd len="sm" type="triangle" w="sm"/>
          </a:ln>
        </p:spPr>
      </p:cxnSp>
      <p:cxnSp>
        <p:nvCxnSpPr>
          <p:cNvPr id="491" name=""/>
          <p:cNvCxnSpPr>
            <a:stCxn id="478" idx="0"/>
            <a:endCxn id="482" idx="4"/>
          </p:cNvCxnSpPr>
          <p:nvPr/>
        </p:nvCxnSpPr>
        <p:spPr>
          <a:xfrm flipV="1">
            <a:off x="3762360" y="2771280"/>
            <a:ext cx="3726720" cy="361872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cxnSp>
        <p:nvCxnSpPr>
          <p:cNvPr id="492" name=""/>
          <p:cNvCxnSpPr>
            <a:stCxn id="478" idx="0"/>
            <a:endCxn id="484" idx="5"/>
          </p:cNvCxnSpPr>
          <p:nvPr/>
        </p:nvCxnSpPr>
        <p:spPr>
          <a:xfrm flipH="1" flipV="1">
            <a:off x="2452320" y="5520960"/>
            <a:ext cx="1310400" cy="86904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cxnSp>
        <p:nvCxnSpPr>
          <p:cNvPr id="493" name=""/>
          <p:cNvCxnSpPr>
            <a:stCxn id="478" idx="0"/>
            <a:endCxn id="486" idx="5"/>
          </p:cNvCxnSpPr>
          <p:nvPr/>
        </p:nvCxnSpPr>
        <p:spPr>
          <a:xfrm flipH="1" flipV="1">
            <a:off x="2452320" y="2707920"/>
            <a:ext cx="1310400" cy="368208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cxnSp>
        <p:nvCxnSpPr>
          <p:cNvPr id="494" name=""/>
          <p:cNvCxnSpPr>
            <a:stCxn id="478" idx="0"/>
            <a:endCxn id="488" idx="4"/>
          </p:cNvCxnSpPr>
          <p:nvPr/>
        </p:nvCxnSpPr>
        <p:spPr>
          <a:xfrm flipV="1">
            <a:off x="3762360" y="4005000"/>
            <a:ext cx="774000" cy="238464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cxnSp>
        <p:nvCxnSpPr>
          <p:cNvPr id="495" name=""/>
          <p:cNvCxnSpPr>
            <a:endCxn id="490" idx="3"/>
          </p:cNvCxnSpPr>
          <p:nvPr/>
        </p:nvCxnSpPr>
        <p:spPr>
          <a:xfrm flipV="1">
            <a:off x="3779640" y="5381280"/>
            <a:ext cx="3091320" cy="1000800"/>
          </a:xfrm>
          <a:prstGeom prst="straightConnector1">
            <a:avLst/>
          </a:prstGeom>
          <a:ln cap="sq" w="12600">
            <a:solidFill>
              <a:srgbClr val="ccffff"/>
            </a:solidFill>
            <a:miter/>
            <a:tailEnd len="sm" type="triangle" w="sm"/>
          </a:ln>
        </p:spPr>
      </p:cxnSp>
      <p:sp>
        <p:nvSpPr>
          <p:cNvPr id="482" name=""/>
          <p:cNvSpPr/>
          <p:nvPr/>
        </p:nvSpPr>
        <p:spPr>
          <a:xfrm>
            <a:off x="6156360" y="176364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480000" y="45212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9280" y="190800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79280" y="466092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D3E8-8D42-405B-82F2-679FBD8A9F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64000" y="328464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Job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79280" y="466092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900000" y="56149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502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179280" y="190800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480000" y="45212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56360" y="176364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66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27003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92360" y="262908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46920" y="2627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964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Respira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488360" y="255600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262560" y="53132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335640" y="40179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04000" y="53863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47848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Occ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rofi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428796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Inspe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05040" y="55213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Back-to-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407196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aza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013120" y="4203720"/>
            <a:ext cx="115236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In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949480" y="4556160"/>
            <a:ext cx="115272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ccid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639880" y="511812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Work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94480" y="1260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66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19280" y="140508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71640" y="190800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9280" y="1332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16360" y="386064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32000" y="3789360"/>
            <a:ext cx="115272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Particip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arg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3640" y="2637000"/>
            <a:ext cx="121428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Lea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88000" y="2637000"/>
            <a:ext cx="115236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3366ff"/>
                </a:solidFill>
                <a:latin typeface="Times New Roman"/>
              </a:rPr>
              <a:t>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3160" y="941400"/>
            <a:ext cx="79419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ppointment scheduling and book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lient Queue hand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lectronic notifications to clinical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munication to employees and managers by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2C4E-1431-4A11-84C2-6E7EB15803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6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5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9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7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20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Benefits of an integrated solution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533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74640" y="1197000"/>
            <a:ext cx="716508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ingle client-centric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tant management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7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educed manual gathering of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9AC23-DD2B-4498-814A-C2C6FB015E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2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4360" y="288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Verdana"/>
              </a:rPr>
              <a:t>End of presentation</a:t>
            </a:r>
            <a:endParaRPr b="0" lang="en-US" sz="2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537" name=""/>
          <p:cNvSpPr/>
          <p:nvPr/>
        </p:nvSpPr>
        <p:spPr>
          <a:xfrm>
            <a:off x="677880" y="5597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cc"/>
                </a:solidFill>
                <a:latin typeface="Verdana"/>
              </a:rPr>
              <a:t>© Copyright eQueue Limited (NZ) and Dusk Business Solutions cc (SA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BAB1-7E6E-4F66-85C5-6D0CAD32BC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42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95360" y="1295280"/>
            <a:ext cx="8153280" cy="40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A unique profession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Book Antiqua"/>
              </a:rPr>
              <a:t>Integrated State-of-Health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 </a:t>
            </a: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at provides the backbone to effec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Health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Book Antiqua"/>
              </a:rPr>
              <a:t>What is</a:t>
            </a:r>
            <a:r>
              <a:rPr b="0" i="1" lang="en-US" sz="6000" spc="-1" strike="noStrike">
                <a:solidFill>
                  <a:srgbClr val="ffffcc"/>
                </a:solidFill>
                <a:latin typeface="Forte"/>
              </a:rPr>
              <a:t> health</a:t>
            </a:r>
            <a:r>
              <a:rPr b="0" lang="en-US" sz="6000" spc="-1" strike="noStrike">
                <a:solidFill>
                  <a:srgbClr val="ffffcc"/>
                </a:solidFill>
                <a:latin typeface="Kunstler Script"/>
              </a:rPr>
              <a:t>Queue </a:t>
            </a:r>
            <a:r>
              <a:rPr b="0" i="1" lang="en-US" sz="4400" spc="-1" strike="noStrike">
                <a:solidFill>
                  <a:srgbClr val="ffffcc"/>
                </a:solidFill>
                <a:latin typeface="Book Antiqu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0841-4F80-4D12-83E3-11D21EDB27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47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11280" y="1413000"/>
            <a:ext cx="815328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e employe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e work areas and department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e clinical staff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ffff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the organisation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cc"/>
                </a:solidFill>
                <a:latin typeface="Forte"/>
              </a:rPr>
              <a:t>health</a:t>
            </a:r>
            <a:r>
              <a:rPr b="0" lang="en-US" sz="5400" spc="-1" strike="noStrike">
                <a:solidFill>
                  <a:srgbClr val="ffffcc"/>
                </a:solidFill>
                <a:latin typeface="Kunstler Script"/>
              </a:rPr>
              <a:t>Queue </a:t>
            </a:r>
            <a:r>
              <a:rPr b="0" i="1" lang="en-US" sz="4000" spc="-1" strike="noStrike">
                <a:solidFill>
                  <a:srgbClr val="ffffcc"/>
                </a:solidFill>
                <a:latin typeface="Book Antiqua"/>
              </a:rPr>
              <a:t>affects four distinct areas</a:t>
            </a:r>
            <a:endParaRPr b="0" lang="en-US" sz="40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4508640"/>
            <a:ext cx="8369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and integrates the data to give an employee-centric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AF1FA-9CBD-42D1-AD51-75A7340CCB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53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11280" y="1341360"/>
            <a:ext cx="8153280" cy="46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Get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value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from your inves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Identify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the hidden meaning in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Predict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rather than being reac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Deliver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intelligent reports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in real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Utilise data-driven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decision-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Build employee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intim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Discover unexpected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300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Guarantee your company’s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249"/>
              </a:spcBef>
              <a:buClr>
                <a:srgbClr val="ffffcc"/>
              </a:buClr>
              <a:buFont typeface="Verdana"/>
              <a:buChar char="•"/>
              <a:tabLst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Use </a:t>
            </a:r>
            <a:r>
              <a:rPr b="0" lang="en-NZ" sz="2400" spc="-1" strike="noStrike">
                <a:solidFill>
                  <a:srgbClr val="ccecff"/>
                </a:solidFill>
                <a:latin typeface="Britannic Bold"/>
              </a:rPr>
              <a:t>ONE</a:t>
            </a:r>
            <a:r>
              <a:rPr b="0" lang="en-NZ" sz="2000" spc="-1" strike="noStrike">
                <a:solidFill>
                  <a:srgbClr val="ffffcc"/>
                </a:solidFill>
                <a:latin typeface="Verdana"/>
              </a:rPr>
              <a:t> system for all you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4400" spc="-1" strike="noStrike">
                <a:solidFill>
                  <a:srgbClr val="ffffcc"/>
                </a:solidFill>
                <a:latin typeface="Book Antiqua"/>
              </a:rPr>
              <a:t>Why use </a:t>
            </a:r>
            <a:r>
              <a:rPr b="0" i="1" lang="en-US" sz="6000" spc="-1" strike="noStrike">
                <a:solidFill>
                  <a:srgbClr val="ffffcc"/>
                </a:solidFill>
                <a:latin typeface="Forte"/>
              </a:rPr>
              <a:t>health</a:t>
            </a:r>
            <a:r>
              <a:rPr b="0" lang="en-US" sz="6000" spc="-1" strike="noStrike">
                <a:solidFill>
                  <a:srgbClr val="ffffcc"/>
                </a:solidFill>
                <a:latin typeface="Kunstler Script"/>
              </a:rPr>
              <a:t>Queue</a:t>
            </a:r>
            <a:r>
              <a:rPr b="0" lang="en-US" sz="4400" spc="-1" strike="noStrike">
                <a:solidFill>
                  <a:srgbClr val="ffffcc"/>
                </a:solidFill>
                <a:latin typeface="Book Antiqua"/>
              </a:rPr>
              <a:t>?</a:t>
            </a:r>
            <a:endParaRPr b="0" lang="en-US" sz="4400" spc="-1" strike="noStrike">
              <a:solidFill>
                <a:srgbClr val="ffffcc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1680-EC91-4595-8EEC-DD00689E54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03120" y="2631960"/>
            <a:ext cx="8496360" cy="1812960"/>
          </a:xfrm>
          <a:prstGeom prst="ellipse">
            <a:avLst/>
          </a:prstGeom>
          <a:solidFill>
            <a:srgbClr val="008080">
              <a:alpha val="50000"/>
            </a:srgbClr>
          </a:solidFill>
          <a:ln w="1908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60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455840" y="2705040"/>
            <a:ext cx="6335640" cy="1270080"/>
          </a:xfrm>
          <a:prstGeom prst="ellipse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51120" y="277668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67040" y="3289320"/>
            <a:ext cx="144792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loyme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43120" y="306540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bo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59480" y="284940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9120" y="328140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08200" y="378468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rs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7840" y="378468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72360" y="321300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yrol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24440" y="336564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ling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62720" y="3365640"/>
            <a:ext cx="1143000" cy="53316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edical A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40160" y="3225960"/>
            <a:ext cx="6098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H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4048200" y="2705040"/>
            <a:ext cx="1143000" cy="533520"/>
          </a:xfrm>
          <a:prstGeom prst="ellipse">
            <a:avLst/>
          </a:prstGeom>
          <a:gradFill rotWithShape="0">
            <a:gsLst>
              <a:gs pos="0">
                <a:srgbClr val="c5d3d3"/>
              </a:gs>
              <a:gs pos="100000">
                <a:srgbClr val="0066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FE33B-E56C-4010-AD8D-58FF9AD278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178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39640" y="2711520"/>
            <a:ext cx="7986960" cy="1612800"/>
            <a:chOff x="539640" y="2711520"/>
            <a:chExt cx="7986960" cy="1612800"/>
          </a:xfrm>
        </p:grpSpPr>
        <p:sp>
          <p:nvSpPr>
            <p:cNvPr id="184" name=""/>
            <p:cNvSpPr/>
            <p:nvPr/>
          </p:nvSpPr>
          <p:spPr>
            <a:xfrm>
              <a:off x="1476360" y="2711520"/>
              <a:ext cx="6335640" cy="1270080"/>
            </a:xfrm>
            <a:prstGeom prst="ellipse">
              <a:avLst/>
            </a:prstGeom>
            <a:solidFill>
              <a:srgbClr val="00666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71640" y="278280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ki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887560" y="32958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Employment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63640" y="3071880"/>
              <a:ext cx="1143000" cy="53316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abou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el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580000" y="285588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3287880"/>
              <a:ext cx="1143000" cy="53316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en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9080" y="379080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Burs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08720" y="379080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UI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92880" y="321948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ayroll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44960" y="337176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filing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83600" y="3371760"/>
              <a:ext cx="1143000" cy="53352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Medical A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4361040" y="3232080"/>
              <a:ext cx="609480" cy="304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aaaaaa"/>
                      </a:gs>
                      <a:gs pos="100000">
                        <a:srgbClr val="ffffff">
                          <a:alpha val="10196"/>
                        </a:srgbClr>
                      </a:gs>
                    </a:gsLst>
                    <a:lin ang="5400000"/>
                  </a:gra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 Black"/>
                </a:rPr>
                <a:t>HR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>
                        <a:alpha val="10196"/>
                      </a:srgbClr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8720" y="2711520"/>
              <a:ext cx="1143000" cy="533160"/>
            </a:xfrm>
            <a:prstGeom prst="ellipse">
              <a:avLst/>
            </a:prstGeom>
            <a:gradFill rotWithShape="0">
              <a:gsLst>
                <a:gs pos="0">
                  <a:srgbClr val="c5d3d3"/>
                </a:gs>
                <a:gs pos="100000">
                  <a:srgbClr val="006666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Trai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03120" y="2631960"/>
            <a:ext cx="8496360" cy="1812960"/>
          </a:xfrm>
          <a:prstGeom prst="ellipse">
            <a:avLst/>
          </a:prstGeom>
          <a:solidFill>
            <a:srgbClr val="0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CE5CE-9FF5-4D7E-AD40-41E7BB80CD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01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79280" y="285264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1338-BF9B-4365-8E1A-2DF82C1202C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15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285264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46920" y="27795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964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pir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488360" y="2708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94480" y="1413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35F7-6425-49CE-8C89-E0A825CB61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7928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ealth and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Book Antiqua"/>
              </a:rPr>
              <a:t>How does Health fit into the Workplace?</a:t>
            </a:r>
            <a:endParaRPr b="0" lang="en-US" sz="3600" spc="-1" strike="noStrike">
              <a:solidFill>
                <a:srgbClr val="ffffcc"/>
              </a:solidFill>
              <a:latin typeface="Book Antiqua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006800" y="6659640"/>
            <a:ext cx="1125360" cy="149040"/>
            <a:chOff x="4006800" y="6659640"/>
            <a:chExt cx="1125360" cy="149040"/>
          </a:xfrm>
        </p:grpSpPr>
        <p:sp>
          <p:nvSpPr>
            <p:cNvPr id="233" name=""/>
            <p:cNvSpPr/>
            <p:nvPr/>
          </p:nvSpPr>
          <p:spPr>
            <a:xfrm>
              <a:off x="4006800" y="6659640"/>
              <a:ext cx="557280" cy="14904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4571640" y="6662520"/>
              <a:ext cx="560520" cy="145800"/>
            </a:xfrm>
            <a:prstGeom prst="line">
              <a:avLst/>
            </a:prstGeom>
            <a:ln cap="sq"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179280" y="2060640"/>
            <a:ext cx="266400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Primary Health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80000" y="4076640"/>
            <a:ext cx="266400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ccecff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56360" y="1916280"/>
            <a:ext cx="2663640" cy="100800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Occupational Heal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285264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edic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3068640"/>
            <a:ext cx="2663640" cy="93672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9999"/>
                </a:solidFill>
                <a:latin typeface="Times New Roman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92360" y="2781360"/>
            <a:ext cx="143964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46920" y="277956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Audi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1964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Spir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88360" y="2708280"/>
            <a:ext cx="143964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Opt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62560" y="4869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Substance Abu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35640" y="3573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E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04000" y="494172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ccecff"/>
                </a:solidFill>
                <a:latin typeface="Times New Roman"/>
              </a:rPr>
              <a:t>Trau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94480" y="141300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ross-func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Lung te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155736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Chronic Dis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71640" y="2060640"/>
            <a:ext cx="1440000" cy="64908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H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484280"/>
            <a:ext cx="1440000" cy="649440"/>
          </a:xfrm>
          <a:prstGeom prst="ellipse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9999"/>
                </a:solidFill>
                <a:latin typeface="Times New Roman"/>
              </a:rPr>
              <a:t>General Heal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FD04E-EA2D-484C-9109-89EEFE9510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1:06:26Z</dcterms:created>
  <dc:creator>Dieter B Stalmann</dc:creator>
  <dc:description/>
  <dc:language>en-US</dc:language>
  <cp:lastModifiedBy> Dieter Stalmann</cp:lastModifiedBy>
  <dcterms:modified xsi:type="dcterms:W3CDTF">2009-12-01T01:02:10Z</dcterms:modified>
  <cp:revision>144</cp:revision>
  <dc:subject/>
  <dc:title>eQueue State of Health Software</dc:title>
</cp:coreProperties>
</file>