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CD6F-5C8A-4573-8D50-9B2DADE4C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3956-EEDE-4216-88C0-234B71BFA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DD1D-22DB-4C12-8C44-79E8634BC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B8E6-6B63-4AA1-8F00-EF1EFDCC4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1B18-9A53-4527-BACD-F17382EEB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CD5C-8DEB-4EEE-B944-676DE48DF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3042-E3E7-4FC0-8D3C-CE7B37A75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4809-7245-4143-8C02-F660555B9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0A18-8C6B-480C-9489-9B4399964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C139-E800-4FF3-814F-0E75FC5B4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74C0-EBD6-44F1-9371-972468925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8526-B1DF-4F34-A7BD-A59B5FA22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122480"/>
          </a:xfrm>
          <a:prstGeom prst="rect">
            <a:avLst/>
          </a:prstGeom>
          <a:gradFill rotWithShape="0">
            <a:gsLst>
              <a:gs pos="0">
                <a:srgbClr val="000036"/>
              </a:gs>
              <a:gs pos="100000">
                <a:srgbClr val="00001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67160" y="57294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68760" y="57294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00680" y="58816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000680" y="55767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471840" y="63435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3440" y="63388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000680" y="64911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000680" y="61866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34324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624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13120" y="61866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905200" y="58816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57056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176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5143680" y="61866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5143680" y="58816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rot="5400000">
            <a:off x="-2628720" y="3848040"/>
            <a:ext cx="5638680" cy="38088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 flipH="1" rot="16200000">
            <a:off x="6158520" y="3848040"/>
            <a:ext cx="563868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" name=""/>
          <p:cNvGraphicFramePr/>
          <p:nvPr/>
        </p:nvGraphicFramePr>
        <p:xfrm>
          <a:off x="4452840" y="6554880"/>
          <a:ext cx="238320" cy="21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52840" y="6554880"/>
                    <a:ext cx="23832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" name=""/>
          <p:cNvSpPr/>
          <p:nvPr/>
        </p:nvSpPr>
        <p:spPr>
          <a:xfrm rot="5400000">
            <a:off x="37800" y="651492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flipH="1" rot="5400000">
            <a:off x="8800920" y="651456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 flipH="1" rot="16200000">
            <a:off x="8800920" y="651492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sldNum" idx="1"/>
          </p:nvPr>
        </p:nvSpPr>
        <p:spPr>
          <a:xfrm>
            <a:off x="72007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8BE9-9E83-42CA-B605-735D8F7D6CC7}" type="slidenum">
              <a:rPr b="0" lang="en-GB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 rot="16200000">
            <a:off x="37800" y="651456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1160" y="2895480"/>
            <a:ext cx="9144000" cy="1122480"/>
          </a:xfrm>
          <a:prstGeom prst="rect">
            <a:avLst/>
          </a:prstGeom>
          <a:gradFill rotWithShape="0">
            <a:gsLst>
              <a:gs pos="0">
                <a:srgbClr val="000036"/>
              </a:gs>
              <a:gs pos="100000">
                <a:srgbClr val="00001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01880" y="1143000"/>
            <a:ext cx="5515920" cy="1412280"/>
            <a:chOff x="1901880" y="1143000"/>
            <a:chExt cx="5515920" cy="1412280"/>
          </a:xfrm>
        </p:grpSpPr>
        <p:sp>
          <p:nvSpPr>
            <p:cNvPr id="71" name=""/>
            <p:cNvSpPr/>
            <p:nvPr/>
          </p:nvSpPr>
          <p:spPr>
            <a:xfrm>
              <a:off x="3454560" y="12952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59400" y="12952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87720" y="14479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87720" y="11430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4560" y="19051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59400" y="19051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87720" y="20574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87720" y="17524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3028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484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87560" y="17524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82880" y="14479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6876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240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30720" y="17524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30720" y="14479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39000">
              <a:off x="6576120" y="1600920"/>
              <a:ext cx="838440" cy="49212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39000">
              <a:off x="5967000" y="1753560"/>
              <a:ext cx="836640" cy="492120"/>
            </a:xfrm>
            <a:custGeom>
              <a:avLst/>
              <a:gdLst>
                <a:gd name="textAreaLeft" fmla="*/ 130680 w 836640"/>
                <a:gd name="textAreaRight" fmla="*/ 732240 w 8366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39000">
              <a:off x="5357520" y="1905840"/>
              <a:ext cx="836640" cy="492120"/>
            </a:xfrm>
            <a:custGeom>
              <a:avLst/>
              <a:gdLst>
                <a:gd name="textAreaLeft" fmla="*/ 130680 w 836640"/>
                <a:gd name="textAreaRight" fmla="*/ 732240 w 8366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39000">
              <a:off x="4824000" y="2058120"/>
              <a:ext cx="836640" cy="492120"/>
            </a:xfrm>
            <a:custGeom>
              <a:avLst/>
              <a:gdLst>
                <a:gd name="textAreaLeft" fmla="*/ 130680 w 836640"/>
                <a:gd name="textAreaRight" fmla="*/ 732240 w 8366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1880" y="1600200"/>
              <a:ext cx="757080" cy="492120"/>
            </a:xfrm>
            <a:custGeom>
              <a:avLst/>
              <a:gdLst>
                <a:gd name="textAreaLeft" fmla="*/ 118080 w 757080"/>
                <a:gd name="textAreaRight" fmla="*/ 662400 w 75708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4760" y="1743120"/>
              <a:ext cx="757080" cy="492120"/>
            </a:xfrm>
            <a:custGeom>
              <a:avLst/>
              <a:gdLst>
                <a:gd name="textAreaLeft" fmla="*/ 118080 w 757080"/>
                <a:gd name="textAreaRight" fmla="*/ 662400 w 75708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97360" y="1895400"/>
              <a:ext cx="757080" cy="492120"/>
            </a:xfrm>
            <a:custGeom>
              <a:avLst/>
              <a:gdLst>
                <a:gd name="textAreaLeft" fmla="*/ 118080 w 757080"/>
                <a:gd name="textAreaRight" fmla="*/ 662400 w 75708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0520" y="2038320"/>
              <a:ext cx="757440" cy="492120"/>
            </a:xfrm>
            <a:custGeom>
              <a:avLst/>
              <a:gdLst>
                <a:gd name="textAreaLeft" fmla="*/ 118080 w 757440"/>
                <a:gd name="textAreaRight" fmla="*/ 662760 w 7574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632448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0" y="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610480" y="632448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8610480" y="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Mural Script"/>
              </a:rPr>
              <a:t>e</a:t>
            </a: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Queue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Book Antiqua"/>
              </a:rPr>
              <a:t>presented by</a:t>
            </a:r>
            <a:endParaRPr b="0" lang="en-US" sz="16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Book Antiqua"/>
              </a:rPr>
              <a:t>Dieter</a:t>
            </a:r>
            <a:r>
              <a:rPr b="0" lang="en-GB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i="1" lang="en-GB" sz="2400" spc="-1" strike="noStrike">
                <a:solidFill>
                  <a:srgbClr val="ffffcc"/>
                </a:solidFill>
                <a:latin typeface="Book Antiqua"/>
              </a:rPr>
              <a:t>Stalman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6453360"/>
          <a:ext cx="238320" cy="21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453360"/>
                    <a:ext cx="23832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14800" y="2986200"/>
            <a:ext cx="27144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504360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55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62560" y="4869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35640" y="3573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04000" y="49417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9068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716280"/>
            <a:ext cx="121428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5040" y="4950000"/>
            <a:ext cx="115236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35002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13120" y="363204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49480" y="398448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39880" y="45464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5628-AE8A-495B-AEBB-A49D2C18A4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504360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84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62560" y="4869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5640" y="3573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04000" y="49417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9068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716280"/>
            <a:ext cx="121428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05040" y="4950000"/>
            <a:ext cx="115236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35002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13120" y="363204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49480" y="398448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9880" y="45464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5600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27640" y="24922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564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35640" y="36432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Demo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BFAA-36B4-4285-8C3E-7755549800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3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5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7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9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1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09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7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7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29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-181080" y="1052640"/>
            <a:ext cx="4321440" cy="252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09800" y="2492280"/>
            <a:ext cx="3672000" cy="216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64000" y="364320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244440" y="3898800"/>
            <a:ext cx="4392720" cy="2698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7520" y="3898800"/>
            <a:ext cx="3348000" cy="22320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88080" y="1090440"/>
            <a:ext cx="3557520" cy="2482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6400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l of these functions can share information!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329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8292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25653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5" idx="0"/>
            <a:endCxn id="346" idx="0"/>
          </p:cNvCxnSpPr>
          <p:nvPr/>
        </p:nvCxnSpPr>
        <p:spPr>
          <a:xfrm flipH="1" rot="16200000">
            <a:off x="2002320" y="3616920"/>
            <a:ext cx="132480" cy="1042200"/>
          </a:xfrm>
          <a:prstGeom prst="curvedConnector5">
            <a:avLst>
              <a:gd name="adj1" fmla="val -173297"/>
              <a:gd name="adj2" fmla="val 50000"/>
              <a:gd name="adj3" fmla="val -17329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58" name=""/>
          <p:cNvCxnSpPr>
            <a:stCxn id="339" idx="2"/>
            <a:endCxn id="340" idx="3"/>
          </p:cNvCxnSpPr>
          <p:nvPr/>
        </p:nvCxnSpPr>
        <p:spPr>
          <a:xfrm flipH="1" rot="10800000">
            <a:off x="6262200" y="4571280"/>
            <a:ext cx="285120" cy="1067400"/>
          </a:xfrm>
          <a:prstGeom prst="curvedConnector5">
            <a:avLst>
              <a:gd name="adj1" fmla="val -80404"/>
              <a:gd name="adj2" fmla="val 30398"/>
              <a:gd name="adj3" fmla="val -80404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59" name=""/>
          <p:cNvCxnSpPr>
            <a:stCxn id="352" idx="0"/>
            <a:endCxn id="336" idx="2"/>
          </p:cNvCxnSpPr>
          <p:nvPr/>
        </p:nvCxnSpPr>
        <p:spPr>
          <a:xfrm flipH="1" rot="16200000">
            <a:off x="2662920" y="-431280"/>
            <a:ext cx="1621440" cy="5147640"/>
          </a:xfrm>
          <a:prstGeom prst="curvedConnector5">
            <a:avLst>
              <a:gd name="adj1" fmla="val -14101"/>
              <a:gd name="adj2" fmla="val 48237"/>
              <a:gd name="adj3" fmla="val -141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0" name=""/>
          <p:cNvCxnSpPr>
            <a:stCxn id="334" idx="7"/>
            <a:endCxn id="350" idx="4"/>
          </p:cNvCxnSpPr>
          <p:nvPr/>
        </p:nvCxnSpPr>
        <p:spPr>
          <a:xfrm flipH="1" flipV="1" rot="5400000">
            <a:off x="1538640" y="1994400"/>
            <a:ext cx="742320" cy="861120"/>
          </a:xfrm>
          <a:prstGeom prst="curvedConnector5">
            <a:avLst>
              <a:gd name="adj1" fmla="val 56525"/>
              <a:gd name="adj2" fmla="val 49979"/>
              <a:gd name="adj3" fmla="val 5652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1" name=""/>
          <p:cNvCxnSpPr>
            <a:stCxn id="350" idx="6"/>
            <a:endCxn id="340" idx="7"/>
          </p:cNvCxnSpPr>
          <p:nvPr/>
        </p:nvCxnSpPr>
        <p:spPr>
          <a:xfrm>
            <a:off x="3059280" y="1730160"/>
            <a:ext cx="4505760" cy="238356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2" name=""/>
          <p:cNvCxnSpPr>
            <a:stCxn id="352" idx="7"/>
            <a:endCxn id="337" idx="1"/>
          </p:cNvCxnSpPr>
          <p:nvPr/>
        </p:nvCxnSpPr>
        <p:spPr>
          <a:xfrm flipH="1" rot="16200000">
            <a:off x="3868200" y="-1034640"/>
            <a:ext cx="2520" cy="4923720"/>
          </a:xfrm>
          <a:prstGeom prst="curvedConnector5">
            <a:avLst>
              <a:gd name="adj1" fmla="val -20400000"/>
              <a:gd name="adj2" fmla="val 50000"/>
              <a:gd name="adj3" fmla="val -204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3" name=""/>
          <p:cNvCxnSpPr>
            <a:stCxn id="345" idx="4"/>
            <a:endCxn id="348" idx="1"/>
          </p:cNvCxnSpPr>
          <p:nvPr/>
        </p:nvCxnSpPr>
        <p:spPr>
          <a:xfrm flipH="1" rot="16200000">
            <a:off x="1931760" y="4336560"/>
            <a:ext cx="492840" cy="1261440"/>
          </a:xfrm>
          <a:prstGeom prst="curvedConnector5">
            <a:avLst>
              <a:gd name="adj1" fmla="val 39985"/>
              <a:gd name="adj2" fmla="val 49985"/>
              <a:gd name="adj3" fmla="val 3998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4" name=""/>
          <p:cNvCxnSpPr>
            <a:stCxn id="346" idx="4"/>
            <a:endCxn id="348" idx="1"/>
          </p:cNvCxnSpPr>
          <p:nvPr/>
        </p:nvCxnSpPr>
        <p:spPr>
          <a:xfrm flipH="1" rot="16200000">
            <a:off x="2517480" y="4923360"/>
            <a:ext cx="361080" cy="219960"/>
          </a:xfrm>
          <a:prstGeom prst="curvedConnector5">
            <a:avLst>
              <a:gd name="adj1" fmla="val 36526"/>
              <a:gd name="adj2" fmla="val 50000"/>
              <a:gd name="adj3" fmla="val 3652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5" name=""/>
          <p:cNvCxnSpPr>
            <a:stCxn id="346" idx="0"/>
            <a:endCxn id="347" idx="0"/>
          </p:cNvCxnSpPr>
          <p:nvPr/>
        </p:nvCxnSpPr>
        <p:spPr>
          <a:xfrm flipH="1" rot="16200000">
            <a:off x="2881080" y="3910320"/>
            <a:ext cx="353160" cy="937440"/>
          </a:xfrm>
          <a:prstGeom prst="curvedConnector5">
            <a:avLst>
              <a:gd name="adj1" fmla="val -64795"/>
              <a:gd name="adj2" fmla="val 49980"/>
              <a:gd name="adj3" fmla="val -6479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6" name=""/>
          <p:cNvCxnSpPr>
            <a:stCxn id="345" idx="3"/>
            <a:endCxn id="326" idx="0"/>
          </p:cNvCxnSpPr>
          <p:nvPr/>
        </p:nvCxnSpPr>
        <p:spPr>
          <a:xfrm flipH="1" rot="16200000">
            <a:off x="812880" y="4951440"/>
            <a:ext cx="989280" cy="337320"/>
          </a:xfrm>
          <a:prstGeom prst="curvedConnector5">
            <a:avLst>
              <a:gd name="adj1" fmla="val 54750"/>
              <a:gd name="adj2" fmla="val 50000"/>
              <a:gd name="adj3" fmla="val 5475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7" name=""/>
          <p:cNvCxnSpPr>
            <a:stCxn id="344" idx="6"/>
            <a:endCxn id="347" idx="6"/>
          </p:cNvCxnSpPr>
          <p:nvPr/>
        </p:nvCxnSpPr>
        <p:spPr>
          <a:xfrm flipV="1">
            <a:off x="2957400" y="4880880"/>
            <a:ext cx="1145520" cy="965880"/>
          </a:xfrm>
          <a:prstGeom prst="curvedConnector5">
            <a:avLst>
              <a:gd name="adj1" fmla="val 129801"/>
              <a:gd name="adj2" fmla="val 50000"/>
              <a:gd name="adj3" fmla="val 1298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8" name=""/>
          <p:cNvCxnSpPr>
            <a:stCxn id="347" idx="6"/>
            <a:endCxn id="348" idx="6"/>
          </p:cNvCxnSpPr>
          <p:nvPr/>
        </p:nvCxnSpPr>
        <p:spPr>
          <a:xfrm flipH="1">
            <a:off x="3792240" y="4881240"/>
            <a:ext cx="310320" cy="562680"/>
          </a:xfrm>
          <a:prstGeom prst="curvedConnector5">
            <a:avLst>
              <a:gd name="adj1" fmla="val -73751"/>
              <a:gd name="adj2" fmla="val 50000"/>
              <a:gd name="adj3" fmla="val -7375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9" name=""/>
          <p:cNvCxnSpPr>
            <a:stCxn id="343" idx="0"/>
            <a:endCxn id="345" idx="0"/>
          </p:cNvCxnSpPr>
          <p:nvPr/>
        </p:nvCxnSpPr>
        <p:spPr>
          <a:xfrm flipH="1" flipV="1" rot="5400000">
            <a:off x="969480" y="3709800"/>
            <a:ext cx="216720" cy="940320"/>
          </a:xfrm>
          <a:prstGeom prst="curvedConnector5">
            <a:avLst>
              <a:gd name="adj1" fmla="val 205823"/>
              <a:gd name="adj2" fmla="val 49980"/>
              <a:gd name="adj3" fmla="val 205823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0" name=""/>
          <p:cNvCxnSpPr>
            <a:stCxn id="334" idx="4"/>
            <a:endCxn id="347" idx="0"/>
          </p:cNvCxnSpPr>
          <p:nvPr/>
        </p:nvCxnSpPr>
        <p:spPr>
          <a:xfrm flipH="1" rot="16200000">
            <a:off x="1644480" y="2675520"/>
            <a:ext cx="1207080" cy="2554920"/>
          </a:xfrm>
          <a:prstGeom prst="curvedConnector5">
            <a:avLst>
              <a:gd name="adj1" fmla="val 17362"/>
              <a:gd name="adj2" fmla="val 50000"/>
              <a:gd name="adj3" fmla="val 1736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1" name=""/>
          <p:cNvCxnSpPr>
            <a:stCxn id="334" idx="5"/>
            <a:endCxn id="354" idx="0"/>
          </p:cNvCxnSpPr>
          <p:nvPr/>
        </p:nvCxnSpPr>
        <p:spPr>
          <a:xfrm flipH="1" rot="16200000">
            <a:off x="2325600" y="2407320"/>
            <a:ext cx="535680" cy="2229480"/>
          </a:xfrm>
          <a:prstGeom prst="curvedConnector5">
            <a:avLst>
              <a:gd name="adj1" fmla="val 58708"/>
              <a:gd name="adj2" fmla="val 50000"/>
              <a:gd name="adj3" fmla="val 58708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2" name=""/>
          <p:cNvCxnSpPr>
            <a:stCxn id="354" idx="7"/>
            <a:endCxn id="336" idx="3"/>
          </p:cNvCxnSpPr>
          <p:nvPr/>
        </p:nvCxnSpPr>
        <p:spPr>
          <a:xfrm flipH="1" flipV="1" rot="5400000">
            <a:off x="4834800" y="2461680"/>
            <a:ext cx="704160" cy="2142360"/>
          </a:xfrm>
          <a:prstGeom prst="curvedConnector5">
            <a:avLst>
              <a:gd name="adj1" fmla="val 50076"/>
              <a:gd name="adj2" fmla="val 50000"/>
              <a:gd name="adj3" fmla="val 500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3" name=""/>
          <p:cNvCxnSpPr>
            <a:stCxn id="355" idx="5"/>
            <a:endCxn id="340" idx="1"/>
          </p:cNvCxnSpPr>
          <p:nvPr/>
        </p:nvCxnSpPr>
        <p:spPr>
          <a:xfrm flipH="1" rot="16200000">
            <a:off x="4932360" y="2498400"/>
            <a:ext cx="923040" cy="2307600"/>
          </a:xfrm>
          <a:prstGeom prst="curvedConnector5">
            <a:avLst>
              <a:gd name="adj1" fmla="val 49902"/>
              <a:gd name="adj2" fmla="val 49992"/>
              <a:gd name="adj3" fmla="val 4990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4" name=""/>
          <p:cNvCxnSpPr>
            <a:stCxn id="355" idx="3"/>
            <a:endCxn id="347" idx="0"/>
          </p:cNvCxnSpPr>
          <p:nvPr/>
        </p:nvCxnSpPr>
        <p:spPr>
          <a:xfrm flipH="1" rot="16200000">
            <a:off x="2769840" y="3801240"/>
            <a:ext cx="1365840" cy="144720"/>
          </a:xfrm>
          <a:prstGeom prst="curvedConnector5">
            <a:avLst>
              <a:gd name="adj1" fmla="val 53361"/>
              <a:gd name="adj2" fmla="val 49875"/>
              <a:gd name="adj3" fmla="val 5336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5" name=""/>
          <p:cNvCxnSpPr>
            <a:stCxn id="354" idx="7"/>
            <a:endCxn id="338" idx="3"/>
          </p:cNvCxnSpPr>
          <p:nvPr/>
        </p:nvCxnSpPr>
        <p:spPr>
          <a:xfrm flipH="1" flipV="1" rot="5400000">
            <a:off x="5519880" y="1705320"/>
            <a:ext cx="775440" cy="35838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6" name=""/>
          <p:cNvCxnSpPr>
            <a:stCxn id="354" idx="7"/>
            <a:endCxn id="337" idx="3"/>
          </p:cNvCxnSpPr>
          <p:nvPr/>
        </p:nvCxnSpPr>
        <p:spPr>
          <a:xfrm flipH="1" flipV="1" rot="5400000">
            <a:off x="4223880" y="1777680"/>
            <a:ext cx="1999440" cy="2215440"/>
          </a:xfrm>
          <a:prstGeom prst="curvedConnector5">
            <a:avLst>
              <a:gd name="adj1" fmla="val 50027"/>
              <a:gd name="adj2" fmla="val 49991"/>
              <a:gd name="adj3" fmla="val 5002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7" name=""/>
          <p:cNvCxnSpPr>
            <a:stCxn id="354" idx="5"/>
            <a:endCxn id="340" idx="2"/>
          </p:cNvCxnSpPr>
          <p:nvPr/>
        </p:nvCxnSpPr>
        <p:spPr>
          <a:xfrm flipH="1" rot="16200000">
            <a:off x="5224320" y="3234240"/>
            <a:ext cx="2160" cy="2220120"/>
          </a:xfrm>
          <a:prstGeom prst="curvedConnector5">
            <a:avLst>
              <a:gd name="adj1" fmla="val 20300000"/>
              <a:gd name="adj2" fmla="val 26889"/>
              <a:gd name="adj3" fmla="val 203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8" name=""/>
          <p:cNvCxnSpPr>
            <a:stCxn id="350" idx="7"/>
            <a:endCxn id="349" idx="1"/>
          </p:cNvCxnSpPr>
          <p:nvPr/>
        </p:nvCxnSpPr>
        <p:spPr>
          <a:xfrm flipH="1" flipV="1" rot="5400000">
            <a:off x="5204520" y="-1001520"/>
            <a:ext cx="144720" cy="4858560"/>
          </a:xfrm>
          <a:prstGeom prst="curvedConnector5">
            <a:avLst>
              <a:gd name="adj1" fmla="val 324937"/>
              <a:gd name="adj2" fmla="val 49996"/>
              <a:gd name="adj3" fmla="val 32493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9" name=""/>
          <p:cNvCxnSpPr>
            <a:stCxn id="342" idx="0"/>
            <a:endCxn id="331" idx="2"/>
          </p:cNvCxnSpPr>
          <p:nvPr/>
        </p:nvCxnSpPr>
        <p:spPr>
          <a:xfrm flipV="1" rot="16200000">
            <a:off x="-1173960" y="3728160"/>
            <a:ext cx="3102840" cy="397800"/>
          </a:xfrm>
          <a:prstGeom prst="curvedConnector5">
            <a:avLst>
              <a:gd name="adj1" fmla="val 42422"/>
              <a:gd name="adj2" fmla="val 64583"/>
              <a:gd name="adj3" fmla="val 4242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80" name=""/>
          <p:cNvCxnSpPr>
            <a:stCxn id="324" idx="6"/>
            <a:endCxn id="340" idx="0"/>
          </p:cNvCxnSpPr>
          <p:nvPr/>
        </p:nvCxnSpPr>
        <p:spPr>
          <a:xfrm>
            <a:off x="6516360" y="3322440"/>
            <a:ext cx="540360" cy="69552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81" name=""/>
          <p:cNvCxnSpPr>
            <a:stCxn id="335" idx="4"/>
            <a:endCxn id="347" idx="0"/>
          </p:cNvCxnSpPr>
          <p:nvPr/>
        </p:nvCxnSpPr>
        <p:spPr>
          <a:xfrm flipH="1" rot="16200000">
            <a:off x="2329200" y="3360600"/>
            <a:ext cx="1278720" cy="1113120"/>
          </a:xfrm>
          <a:prstGeom prst="curvedConnector5">
            <a:avLst>
              <a:gd name="adj1" fmla="val 49929"/>
              <a:gd name="adj2" fmla="val 49983"/>
              <a:gd name="adj3" fmla="val 49929"/>
            </a:avLst>
          </a:prstGeom>
          <a:ln cap="sq" w="12600">
            <a:solidFill>
              <a:srgbClr val="ff99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6FD2-DB3A-4164-AE27-48DA28A2DE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-181080" y="1052640"/>
            <a:ext cx="4321440" cy="252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09800" y="2492280"/>
            <a:ext cx="3672000" cy="216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244440" y="3898800"/>
            <a:ext cx="4392720" cy="2698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97520" y="3898800"/>
            <a:ext cx="3348000" cy="22320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88080" y="1090440"/>
            <a:ext cx="3557520" cy="2482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39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86064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27640" y="25653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09" idx="0"/>
            <a:endCxn id="410" idx="0"/>
          </p:cNvCxnSpPr>
          <p:nvPr/>
        </p:nvCxnSpPr>
        <p:spPr>
          <a:xfrm flipH="1" rot="16200000">
            <a:off x="2002320" y="3616920"/>
            <a:ext cx="132480" cy="1042200"/>
          </a:xfrm>
          <a:prstGeom prst="curvedConnector5">
            <a:avLst>
              <a:gd name="adj1" fmla="val -173297"/>
              <a:gd name="adj2" fmla="val 50000"/>
              <a:gd name="adj3" fmla="val -17329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2" name=""/>
          <p:cNvCxnSpPr>
            <a:stCxn id="403" idx="2"/>
            <a:endCxn id="404" idx="3"/>
          </p:cNvCxnSpPr>
          <p:nvPr/>
        </p:nvCxnSpPr>
        <p:spPr>
          <a:xfrm flipH="1" rot="10800000">
            <a:off x="6262200" y="4571280"/>
            <a:ext cx="285120" cy="1067400"/>
          </a:xfrm>
          <a:prstGeom prst="curvedConnector5">
            <a:avLst>
              <a:gd name="adj1" fmla="val -80404"/>
              <a:gd name="adj2" fmla="val 30398"/>
              <a:gd name="adj3" fmla="val -80404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3" name=""/>
          <p:cNvCxnSpPr>
            <a:stCxn id="416" idx="0"/>
            <a:endCxn id="400" idx="2"/>
          </p:cNvCxnSpPr>
          <p:nvPr/>
        </p:nvCxnSpPr>
        <p:spPr>
          <a:xfrm flipH="1" rot="16200000">
            <a:off x="2662920" y="-431280"/>
            <a:ext cx="1621440" cy="5147640"/>
          </a:xfrm>
          <a:prstGeom prst="curvedConnector5">
            <a:avLst>
              <a:gd name="adj1" fmla="val -14101"/>
              <a:gd name="adj2" fmla="val 48237"/>
              <a:gd name="adj3" fmla="val -141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4" name=""/>
          <p:cNvCxnSpPr>
            <a:stCxn id="398" idx="7"/>
            <a:endCxn id="414" idx="4"/>
          </p:cNvCxnSpPr>
          <p:nvPr/>
        </p:nvCxnSpPr>
        <p:spPr>
          <a:xfrm flipH="1" flipV="1" rot="5400000">
            <a:off x="1538640" y="1994400"/>
            <a:ext cx="742320" cy="861120"/>
          </a:xfrm>
          <a:prstGeom prst="curvedConnector5">
            <a:avLst>
              <a:gd name="adj1" fmla="val 56525"/>
              <a:gd name="adj2" fmla="val 49979"/>
              <a:gd name="adj3" fmla="val 5652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5" name=""/>
          <p:cNvCxnSpPr>
            <a:stCxn id="414" idx="6"/>
            <a:endCxn id="404" idx="7"/>
          </p:cNvCxnSpPr>
          <p:nvPr/>
        </p:nvCxnSpPr>
        <p:spPr>
          <a:xfrm>
            <a:off x="3059280" y="1730160"/>
            <a:ext cx="4505760" cy="238356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6" name=""/>
          <p:cNvCxnSpPr>
            <a:stCxn id="416" idx="7"/>
            <a:endCxn id="401" idx="1"/>
          </p:cNvCxnSpPr>
          <p:nvPr/>
        </p:nvCxnSpPr>
        <p:spPr>
          <a:xfrm flipH="1" rot="16200000">
            <a:off x="3868200" y="-1034640"/>
            <a:ext cx="2520" cy="4923720"/>
          </a:xfrm>
          <a:prstGeom prst="curvedConnector5">
            <a:avLst>
              <a:gd name="adj1" fmla="val -20400000"/>
              <a:gd name="adj2" fmla="val 50000"/>
              <a:gd name="adj3" fmla="val -204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7" name=""/>
          <p:cNvCxnSpPr>
            <a:stCxn id="409" idx="4"/>
            <a:endCxn id="412" idx="1"/>
          </p:cNvCxnSpPr>
          <p:nvPr/>
        </p:nvCxnSpPr>
        <p:spPr>
          <a:xfrm flipH="1" rot="16200000">
            <a:off x="1931760" y="4336560"/>
            <a:ext cx="492840" cy="1261440"/>
          </a:xfrm>
          <a:prstGeom prst="curvedConnector5">
            <a:avLst>
              <a:gd name="adj1" fmla="val 39985"/>
              <a:gd name="adj2" fmla="val 49985"/>
              <a:gd name="adj3" fmla="val 3998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8" name=""/>
          <p:cNvCxnSpPr>
            <a:stCxn id="410" idx="4"/>
            <a:endCxn id="412" idx="1"/>
          </p:cNvCxnSpPr>
          <p:nvPr/>
        </p:nvCxnSpPr>
        <p:spPr>
          <a:xfrm flipH="1" rot="16200000">
            <a:off x="2517480" y="4923360"/>
            <a:ext cx="361080" cy="219960"/>
          </a:xfrm>
          <a:prstGeom prst="curvedConnector5">
            <a:avLst>
              <a:gd name="adj1" fmla="val 36526"/>
              <a:gd name="adj2" fmla="val 50000"/>
              <a:gd name="adj3" fmla="val 3652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9" name=""/>
          <p:cNvCxnSpPr>
            <a:stCxn id="410" idx="0"/>
            <a:endCxn id="411" idx="0"/>
          </p:cNvCxnSpPr>
          <p:nvPr/>
        </p:nvCxnSpPr>
        <p:spPr>
          <a:xfrm flipH="1" rot="16200000">
            <a:off x="2881080" y="3910320"/>
            <a:ext cx="353160" cy="937440"/>
          </a:xfrm>
          <a:prstGeom prst="curvedConnector5">
            <a:avLst>
              <a:gd name="adj1" fmla="val -64795"/>
              <a:gd name="adj2" fmla="val 49980"/>
              <a:gd name="adj3" fmla="val -6479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0" name=""/>
          <p:cNvCxnSpPr>
            <a:stCxn id="409" idx="3"/>
            <a:endCxn id="390" idx="0"/>
          </p:cNvCxnSpPr>
          <p:nvPr/>
        </p:nvCxnSpPr>
        <p:spPr>
          <a:xfrm flipH="1" rot="16200000">
            <a:off x="812880" y="4951440"/>
            <a:ext cx="989280" cy="337320"/>
          </a:xfrm>
          <a:prstGeom prst="curvedConnector5">
            <a:avLst>
              <a:gd name="adj1" fmla="val 54750"/>
              <a:gd name="adj2" fmla="val 50000"/>
              <a:gd name="adj3" fmla="val 5475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1" name=""/>
          <p:cNvCxnSpPr>
            <a:stCxn id="408" idx="6"/>
            <a:endCxn id="411" idx="6"/>
          </p:cNvCxnSpPr>
          <p:nvPr/>
        </p:nvCxnSpPr>
        <p:spPr>
          <a:xfrm flipV="1">
            <a:off x="2957400" y="4880880"/>
            <a:ext cx="1145520" cy="965880"/>
          </a:xfrm>
          <a:prstGeom prst="curvedConnector5">
            <a:avLst>
              <a:gd name="adj1" fmla="val 129801"/>
              <a:gd name="adj2" fmla="val 50000"/>
              <a:gd name="adj3" fmla="val 1298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2" name=""/>
          <p:cNvCxnSpPr>
            <a:stCxn id="411" idx="6"/>
            <a:endCxn id="412" idx="6"/>
          </p:cNvCxnSpPr>
          <p:nvPr/>
        </p:nvCxnSpPr>
        <p:spPr>
          <a:xfrm flipH="1">
            <a:off x="3792240" y="4881240"/>
            <a:ext cx="310320" cy="562680"/>
          </a:xfrm>
          <a:prstGeom prst="curvedConnector5">
            <a:avLst>
              <a:gd name="adj1" fmla="val -73751"/>
              <a:gd name="adj2" fmla="val 50000"/>
              <a:gd name="adj3" fmla="val -7375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3" name=""/>
          <p:cNvCxnSpPr>
            <a:stCxn id="407" idx="0"/>
            <a:endCxn id="409" idx="0"/>
          </p:cNvCxnSpPr>
          <p:nvPr/>
        </p:nvCxnSpPr>
        <p:spPr>
          <a:xfrm flipH="1" flipV="1" rot="5400000">
            <a:off x="969480" y="3709800"/>
            <a:ext cx="216720" cy="940320"/>
          </a:xfrm>
          <a:prstGeom prst="curvedConnector5">
            <a:avLst>
              <a:gd name="adj1" fmla="val 205823"/>
              <a:gd name="adj2" fmla="val 49980"/>
              <a:gd name="adj3" fmla="val 205823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4" name=""/>
          <p:cNvCxnSpPr>
            <a:stCxn id="398" idx="4"/>
            <a:endCxn id="411" idx="0"/>
          </p:cNvCxnSpPr>
          <p:nvPr/>
        </p:nvCxnSpPr>
        <p:spPr>
          <a:xfrm flipH="1" rot="16200000">
            <a:off x="1644480" y="2675520"/>
            <a:ext cx="1207080" cy="2554920"/>
          </a:xfrm>
          <a:prstGeom prst="curvedConnector5">
            <a:avLst>
              <a:gd name="adj1" fmla="val 17362"/>
              <a:gd name="adj2" fmla="val 50000"/>
              <a:gd name="adj3" fmla="val 1736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5" name=""/>
          <p:cNvCxnSpPr>
            <a:stCxn id="398" idx="5"/>
            <a:endCxn id="418" idx="0"/>
          </p:cNvCxnSpPr>
          <p:nvPr/>
        </p:nvCxnSpPr>
        <p:spPr>
          <a:xfrm flipH="1" rot="16200000">
            <a:off x="2325600" y="2407320"/>
            <a:ext cx="535680" cy="2229480"/>
          </a:xfrm>
          <a:prstGeom prst="curvedConnector5">
            <a:avLst>
              <a:gd name="adj1" fmla="val 58708"/>
              <a:gd name="adj2" fmla="val 50000"/>
              <a:gd name="adj3" fmla="val 58708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6" name=""/>
          <p:cNvCxnSpPr>
            <a:stCxn id="418" idx="7"/>
            <a:endCxn id="400" idx="3"/>
          </p:cNvCxnSpPr>
          <p:nvPr/>
        </p:nvCxnSpPr>
        <p:spPr>
          <a:xfrm flipH="1" flipV="1" rot="5400000">
            <a:off x="4834800" y="2461680"/>
            <a:ext cx="704160" cy="2142360"/>
          </a:xfrm>
          <a:prstGeom prst="curvedConnector5">
            <a:avLst>
              <a:gd name="adj1" fmla="val 50076"/>
              <a:gd name="adj2" fmla="val 50000"/>
              <a:gd name="adj3" fmla="val 500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7" name=""/>
          <p:cNvCxnSpPr>
            <a:stCxn id="419" idx="5"/>
            <a:endCxn id="404" idx="1"/>
          </p:cNvCxnSpPr>
          <p:nvPr/>
        </p:nvCxnSpPr>
        <p:spPr>
          <a:xfrm flipH="1" rot="16200000">
            <a:off x="4932360" y="2498400"/>
            <a:ext cx="923040" cy="2307600"/>
          </a:xfrm>
          <a:prstGeom prst="curvedConnector5">
            <a:avLst>
              <a:gd name="adj1" fmla="val 49902"/>
              <a:gd name="adj2" fmla="val 49992"/>
              <a:gd name="adj3" fmla="val 4990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8" name=""/>
          <p:cNvCxnSpPr>
            <a:stCxn id="419" idx="3"/>
            <a:endCxn id="411" idx="0"/>
          </p:cNvCxnSpPr>
          <p:nvPr/>
        </p:nvCxnSpPr>
        <p:spPr>
          <a:xfrm flipH="1" rot="16200000">
            <a:off x="2769840" y="3801240"/>
            <a:ext cx="1365840" cy="144720"/>
          </a:xfrm>
          <a:prstGeom prst="curvedConnector5">
            <a:avLst>
              <a:gd name="adj1" fmla="val 53361"/>
              <a:gd name="adj2" fmla="val 49875"/>
              <a:gd name="adj3" fmla="val 5336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9" name=""/>
          <p:cNvCxnSpPr>
            <a:stCxn id="418" idx="7"/>
            <a:endCxn id="402" idx="3"/>
          </p:cNvCxnSpPr>
          <p:nvPr/>
        </p:nvCxnSpPr>
        <p:spPr>
          <a:xfrm flipH="1" flipV="1" rot="5400000">
            <a:off x="5519880" y="1705320"/>
            <a:ext cx="775440" cy="35838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0" name=""/>
          <p:cNvCxnSpPr>
            <a:stCxn id="418" idx="7"/>
            <a:endCxn id="401" idx="3"/>
          </p:cNvCxnSpPr>
          <p:nvPr/>
        </p:nvCxnSpPr>
        <p:spPr>
          <a:xfrm flipH="1" flipV="1" rot="5400000">
            <a:off x="4223880" y="1777680"/>
            <a:ext cx="1999440" cy="2215440"/>
          </a:xfrm>
          <a:prstGeom prst="curvedConnector5">
            <a:avLst>
              <a:gd name="adj1" fmla="val 50027"/>
              <a:gd name="adj2" fmla="val 49991"/>
              <a:gd name="adj3" fmla="val 5002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1" name=""/>
          <p:cNvCxnSpPr>
            <a:stCxn id="418" idx="5"/>
            <a:endCxn id="404" idx="2"/>
          </p:cNvCxnSpPr>
          <p:nvPr/>
        </p:nvCxnSpPr>
        <p:spPr>
          <a:xfrm flipH="1" rot="16200000">
            <a:off x="5224320" y="3234240"/>
            <a:ext cx="2160" cy="2220120"/>
          </a:xfrm>
          <a:prstGeom prst="curvedConnector5">
            <a:avLst>
              <a:gd name="adj1" fmla="val 20300000"/>
              <a:gd name="adj2" fmla="val 26889"/>
              <a:gd name="adj3" fmla="val 203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2" name=""/>
          <p:cNvCxnSpPr>
            <a:stCxn id="414" idx="7"/>
            <a:endCxn id="413" idx="1"/>
          </p:cNvCxnSpPr>
          <p:nvPr/>
        </p:nvCxnSpPr>
        <p:spPr>
          <a:xfrm flipH="1" flipV="1" rot="5400000">
            <a:off x="5204520" y="-1001520"/>
            <a:ext cx="144720" cy="4858560"/>
          </a:xfrm>
          <a:prstGeom prst="curvedConnector5">
            <a:avLst>
              <a:gd name="adj1" fmla="val 324937"/>
              <a:gd name="adj2" fmla="val 49996"/>
              <a:gd name="adj3" fmla="val 32493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3" name=""/>
          <p:cNvCxnSpPr>
            <a:stCxn id="406" idx="0"/>
            <a:endCxn id="395" idx="2"/>
          </p:cNvCxnSpPr>
          <p:nvPr/>
        </p:nvCxnSpPr>
        <p:spPr>
          <a:xfrm flipV="1" rot="16200000">
            <a:off x="-1173960" y="3728160"/>
            <a:ext cx="3102840" cy="397800"/>
          </a:xfrm>
          <a:prstGeom prst="curvedConnector5">
            <a:avLst>
              <a:gd name="adj1" fmla="val 42422"/>
              <a:gd name="adj2" fmla="val 64583"/>
              <a:gd name="adj3" fmla="val 4242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4" name=""/>
          <p:cNvCxnSpPr>
            <a:stCxn id="388" idx="6"/>
            <a:endCxn id="404" idx="0"/>
          </p:cNvCxnSpPr>
          <p:nvPr/>
        </p:nvCxnSpPr>
        <p:spPr>
          <a:xfrm>
            <a:off x="6516360" y="3322440"/>
            <a:ext cx="540360" cy="69552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5" name=""/>
          <p:cNvCxnSpPr>
            <a:stCxn id="399" idx="4"/>
            <a:endCxn id="411" idx="0"/>
          </p:cNvCxnSpPr>
          <p:nvPr/>
        </p:nvCxnSpPr>
        <p:spPr>
          <a:xfrm flipH="1" rot="16200000">
            <a:off x="2329200" y="3360600"/>
            <a:ext cx="1278720" cy="1113120"/>
          </a:xfrm>
          <a:prstGeom prst="curvedConnector5">
            <a:avLst>
              <a:gd name="adj1" fmla="val 49929"/>
              <a:gd name="adj2" fmla="val 49983"/>
              <a:gd name="adj3" fmla="val 49929"/>
            </a:avLst>
          </a:prstGeom>
          <a:ln cap="sq" w="12600">
            <a:solidFill>
              <a:srgbClr val="ff99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5364000" y="364320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F458-2DC7-44C8-B930-CC5C624B5094}" type="slidenum">
              <a:t>13</a:t>
            </a:fld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6400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Underlying Features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452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8292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2565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080" y="6381720"/>
            <a:ext cx="2411280" cy="405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33cc"/>
                </a:solidFill>
                <a:latin typeface="Verdana"/>
              </a:rPr>
              <a:t>Electronic Document 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56000" y="6389640"/>
            <a:ext cx="2411280" cy="405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33cc"/>
                </a:solidFill>
                <a:latin typeface="Verdan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64000" y="364320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Demo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5600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7" idx="0"/>
            <a:endCxn id="482" idx="3"/>
          </p:cNvCxnSpPr>
          <p:nvPr/>
        </p:nvCxnSpPr>
        <p:spPr>
          <a:xfrm flipV="1">
            <a:off x="1279440" y="2623680"/>
            <a:ext cx="5268240" cy="375840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3" name=""/>
          <p:cNvCxnSpPr>
            <a:stCxn id="477" idx="0"/>
            <a:endCxn id="484" idx="3"/>
          </p:cNvCxnSpPr>
          <p:nvPr/>
        </p:nvCxnSpPr>
        <p:spPr>
          <a:xfrm flipH="1" flipV="1">
            <a:off x="569160" y="5520960"/>
            <a:ext cx="710280" cy="8611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5" name=""/>
          <p:cNvCxnSpPr>
            <a:stCxn id="477" idx="0"/>
            <a:endCxn id="486" idx="4"/>
          </p:cNvCxnSpPr>
          <p:nvPr/>
        </p:nvCxnSpPr>
        <p:spPr>
          <a:xfrm flipV="1">
            <a:off x="1279440" y="2844000"/>
            <a:ext cx="232560" cy="35377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7" name=""/>
          <p:cNvCxnSpPr>
            <a:stCxn id="477" idx="0"/>
            <a:endCxn id="488" idx="3"/>
          </p:cNvCxnSpPr>
          <p:nvPr/>
        </p:nvCxnSpPr>
        <p:spPr>
          <a:xfrm flipV="1">
            <a:off x="1279440" y="3868200"/>
            <a:ext cx="2315520" cy="25135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9" name=""/>
          <p:cNvCxnSpPr>
            <a:stCxn id="477" idx="0"/>
            <a:endCxn id="490" idx="2"/>
          </p:cNvCxnSpPr>
          <p:nvPr/>
        </p:nvCxnSpPr>
        <p:spPr>
          <a:xfrm flipV="1">
            <a:off x="1279440" y="5025960"/>
            <a:ext cx="5201280" cy="13561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91" name=""/>
          <p:cNvCxnSpPr>
            <a:stCxn id="478" idx="0"/>
            <a:endCxn id="482" idx="4"/>
          </p:cNvCxnSpPr>
          <p:nvPr/>
        </p:nvCxnSpPr>
        <p:spPr>
          <a:xfrm flipV="1">
            <a:off x="3762360" y="2771280"/>
            <a:ext cx="3726720" cy="361872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2" name=""/>
          <p:cNvCxnSpPr>
            <a:stCxn id="478" idx="0"/>
            <a:endCxn id="484" idx="5"/>
          </p:cNvCxnSpPr>
          <p:nvPr/>
        </p:nvCxnSpPr>
        <p:spPr>
          <a:xfrm flipH="1" flipV="1">
            <a:off x="2452320" y="5520960"/>
            <a:ext cx="1310400" cy="86904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3" name=""/>
          <p:cNvCxnSpPr>
            <a:stCxn id="478" idx="0"/>
            <a:endCxn id="486" idx="5"/>
          </p:cNvCxnSpPr>
          <p:nvPr/>
        </p:nvCxnSpPr>
        <p:spPr>
          <a:xfrm flipH="1" flipV="1">
            <a:off x="2452320" y="2707920"/>
            <a:ext cx="1310400" cy="368208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4" name=""/>
          <p:cNvCxnSpPr>
            <a:stCxn id="478" idx="0"/>
            <a:endCxn id="488" idx="4"/>
          </p:cNvCxnSpPr>
          <p:nvPr/>
        </p:nvCxnSpPr>
        <p:spPr>
          <a:xfrm flipV="1">
            <a:off x="3762360" y="4005000"/>
            <a:ext cx="774000" cy="238464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5" name=""/>
          <p:cNvCxnSpPr>
            <a:endCxn id="490" idx="3"/>
          </p:cNvCxnSpPr>
          <p:nvPr/>
        </p:nvCxnSpPr>
        <p:spPr>
          <a:xfrm flipV="1">
            <a:off x="3779640" y="5381280"/>
            <a:ext cx="3091320" cy="100080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sp>
        <p:nvSpPr>
          <p:cNvPr id="482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A04F-36C5-4A0A-954D-4C50339D5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64000" y="328464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502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88000" y="2637000"/>
            <a:ext cx="115236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3160" y="941400"/>
            <a:ext cx="79419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ointment scheduling and book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ent Queue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ectronic notifications to clinical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unication to employees and managers by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A19E-E165-44FB-B4EE-A0F3DE5EBD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Benefits of an integrated solution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53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74640" y="1197000"/>
            <a:ext cx="7165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client-centric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tant management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d manual gathering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FD64-5DEC-460B-97C3-C124474664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288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nd of presenta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37" name=""/>
          <p:cNvSpPr/>
          <p:nvPr/>
        </p:nvSpPr>
        <p:spPr>
          <a:xfrm>
            <a:off x="677880" y="5597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Verdana"/>
              </a:rPr>
              <a:t>© Copyright eQueue Limited (NZ) and Dusk Business Solutions cc (S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0C1F-2086-4DA9-867E-E275C71339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42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95360" y="1295280"/>
            <a:ext cx="815328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 unique profession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Book Antiqua"/>
              </a:rPr>
              <a:t>Integrated State-of-Health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at provides the backbone to eff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Health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Book Antiqua"/>
              </a:rPr>
              <a:t>What is</a:t>
            </a:r>
            <a:r>
              <a:rPr b="0" i="1" lang="en-US" sz="6000" spc="-1" strike="noStrike">
                <a:solidFill>
                  <a:srgbClr val="ffffcc"/>
                </a:solidFill>
                <a:latin typeface="Forte"/>
              </a:rPr>
              <a:t> health</a:t>
            </a:r>
            <a:r>
              <a:rPr b="0" lang="en-US" sz="6000" spc="-1" strike="noStrike">
                <a:solidFill>
                  <a:srgbClr val="ffffcc"/>
                </a:solidFill>
                <a:latin typeface="Kunstler Script"/>
              </a:rPr>
              <a:t>Queue </a:t>
            </a:r>
            <a:r>
              <a:rPr b="0" i="1" lang="en-US" sz="4400" spc="-1" strike="noStrike">
                <a:solidFill>
                  <a:srgbClr val="ffffcc"/>
                </a:solidFill>
                <a:latin typeface="Book Antiqu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90B7-3576-4090-A93C-BE184276B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47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11280" y="1413000"/>
            <a:ext cx="81532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employe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work areas and departme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clinical staff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organisation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Forte"/>
              </a:rPr>
              <a:t>health</a:t>
            </a:r>
            <a:r>
              <a:rPr b="0" lang="en-US" sz="5400" spc="-1" strike="noStrike">
                <a:solidFill>
                  <a:srgbClr val="ffffcc"/>
                </a:solidFill>
                <a:latin typeface="Kunstler Script"/>
              </a:rPr>
              <a:t>Queue </a:t>
            </a:r>
            <a:r>
              <a:rPr b="0" i="1" lang="en-US" sz="4000" spc="-1" strike="noStrike">
                <a:solidFill>
                  <a:srgbClr val="ffffcc"/>
                </a:solidFill>
                <a:latin typeface="Book Antiqua"/>
              </a:rPr>
              <a:t>affects four distinct areas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508640"/>
            <a:ext cx="836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nd integrates the data to give an employee-centric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8896-3746-4C96-AA16-B6311352E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5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11280" y="134136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Get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value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from your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Identify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the hidden meaning in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Predict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rather than being re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Deliver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intelligent reports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in real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Utilise data-driven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decision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Build employee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Discover unexpected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Guarantee your company’s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Use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ONE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system for all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400" spc="-1" strike="noStrike">
                <a:solidFill>
                  <a:srgbClr val="ffffcc"/>
                </a:solidFill>
                <a:latin typeface="Book Antiqua"/>
              </a:rPr>
              <a:t>Why use </a:t>
            </a:r>
            <a:r>
              <a:rPr b="0" i="1" lang="en-US" sz="6000" spc="-1" strike="noStrike">
                <a:solidFill>
                  <a:srgbClr val="ffffcc"/>
                </a:solidFill>
                <a:latin typeface="Forte"/>
              </a:rPr>
              <a:t>health</a:t>
            </a:r>
            <a:r>
              <a:rPr b="0" lang="en-US" sz="6000" spc="-1" strike="noStrike">
                <a:solidFill>
                  <a:srgbClr val="ffffcc"/>
                </a:solidFill>
                <a:latin typeface="Kunstler Script"/>
              </a:rPr>
              <a:t>Queue</a:t>
            </a: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53A8-B274-4BE6-89C2-AA11139433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3120" y="2631960"/>
            <a:ext cx="8496360" cy="1812960"/>
          </a:xfrm>
          <a:prstGeom prst="ellipse">
            <a:avLst/>
          </a:prstGeom>
          <a:solidFill>
            <a:srgbClr val="008080">
              <a:alpha val="50000"/>
            </a:srgbClr>
          </a:solidFill>
          <a:ln w="1908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60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55840" y="2705040"/>
            <a:ext cx="6335640" cy="1270080"/>
          </a:xfrm>
          <a:prstGeom prst="ellipse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51120" y="277668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67040" y="3289320"/>
            <a:ext cx="144792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loy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3120" y="30654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b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9480" y="28494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9120" y="32814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08200" y="378468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s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7840" y="378468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2130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y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24440" y="336564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ling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62720" y="336564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l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40160" y="3225960"/>
            <a:ext cx="609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4048200" y="270504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8CA1-DB4E-4CB2-B090-979B692DC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78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9640" y="2711520"/>
            <a:ext cx="7986960" cy="1612800"/>
            <a:chOff x="539640" y="2711520"/>
            <a:chExt cx="7986960" cy="1612800"/>
          </a:xfrm>
        </p:grpSpPr>
        <p:sp>
          <p:nvSpPr>
            <p:cNvPr id="184" name=""/>
            <p:cNvSpPr/>
            <p:nvPr/>
          </p:nvSpPr>
          <p:spPr>
            <a:xfrm>
              <a:off x="1476360" y="2711520"/>
              <a:ext cx="6335640" cy="1270080"/>
            </a:xfrm>
            <a:prstGeom prst="ellipse">
              <a:avLst/>
            </a:prstGeom>
            <a:solidFill>
              <a:srgbClr val="00666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71640" y="278280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87560" y="32958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loyment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3640" y="3071880"/>
              <a:ext cx="114300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u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l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80000" y="285588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3287880"/>
              <a:ext cx="114300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n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9080" y="379080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rs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08720" y="379080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U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92880" y="321948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yroll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44960" y="337176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filing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83600" y="337176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dical A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361040" y="3232080"/>
              <a:ext cx="6094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>
                          <a:alpha val="10196"/>
                        </a:srgbClr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HR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>
                        <a:alpha val="10196"/>
                      </a:srgbClr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8720" y="2711520"/>
              <a:ext cx="114300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03120" y="2631960"/>
            <a:ext cx="8496360" cy="181296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72B9-821F-4249-B920-F10FDE1E64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01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28526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76E3-A8F3-46A9-910B-678A0D87FC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15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A6B9-35BD-4C19-BF72-14F82F552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3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62560" y="4869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35640" y="3573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04000" y="49417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5B80-A58F-46BB-AA3E-9AF330368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1:06:26Z</dcterms:created>
  <dc:creator>Dieter B Stalmann</dc:creator>
  <dc:description/>
  <dc:language>en-US</dc:language>
  <cp:lastModifiedBy> Dieter Stalmann</cp:lastModifiedBy>
  <dcterms:modified xsi:type="dcterms:W3CDTF">2009-12-01T01:02:10Z</dcterms:modified>
  <cp:revision>144</cp:revision>
  <dc:subject/>
  <dc:title>eQueue State of Health Software</dc:title>
</cp:coreProperties>
</file>